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745E7-D51E-468D-843A-3DAD39FBE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8E231-DF01-4923-9597-877F90CEA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512-C96B-43A6-B4C2-BA33D2CEF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B31C-C684-4FB5-B842-9C0D472E6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D6941-2353-4AC7-831F-0FCD9963AC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5B70-2A25-46D0-BFF6-34DF13193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3AF5B-A4BE-4FBE-B33C-DE930E35C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B7EA1-58C0-4495-9414-D76660100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DC5DF-6AC7-4B62-8825-87DB1A826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74FDA-415E-42C2-BAB8-9F833C04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13A9-7A50-4AD9-9B3D-C8F2B491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7EFB2-B0E4-432C-8B8B-982DA594A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DE5D3-A1EE-473E-837E-84F628E9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AC918-F3F5-4316-928D-A455867ED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DD5CD-6FE4-4089-A31F-217AEA0BA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5D660-8B31-4B54-B7E6-3B70D9371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2528F-854D-42F5-AE81-B98AE757D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569A2-B695-4501-B8F1-7315A6B64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1143EC-4413-4458-8F74-0458E187C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BA89DE-26F3-4227-AF82-AAFE1DF2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A2403-E867-4F9B-9FC0-D34DA2E83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F91AD60-4D10-4900-AB8E-DFDA2EF7E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C870F-80EA-446C-8DBC-35E5A4646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0A39EE-9AB6-4099-81E4-410C21B27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4B96CB4-9BFE-481D-A05A-B618824A6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D1039-80F4-4C3F-A34E-F9752496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68F179-82E8-49B9-BC11-3FA7C0283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D62448-1C0E-4F6A-97B0-559987D06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F4E78A-765B-48C5-A1D2-9C337E28E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9A0C2-B5CB-42CC-AEA4-F75492CB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C9CF82-4530-4012-AA01-345611B6A4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0D9246F-96FB-4711-8091-12738C6E5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C9DAECE-1933-4A31-B1FE-A546FEC1D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EADC-CB1F-483D-A89F-E0B4F6C85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37C2755-AF0D-4A58-AF74-F4DC140AA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516550-F49F-4D31-8B4A-37F574A14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33C2EC-AE10-42F8-A61D-DA64B6011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C70A7-A3E7-4DA4-92F4-F505D48A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161675-06C8-4925-A516-D78DCCB3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084416-DCF3-4B06-873A-E61A7136D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F009DF-6CE9-40DD-ACB9-894E3F570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A6D4075-CD0D-42A5-8D1C-D8367925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22E803-DA29-455F-8E00-CFB9EA695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B459B9-CF86-4C6F-86A1-6030C9161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F5EF-9160-485F-BACB-546C51983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83D08-1955-4F26-B3A1-BC582F8A6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3690F-C401-46A9-A150-D6DE063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94741C-7014-4A1A-9398-5F408EC84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637BD4-6EAC-4ADF-BFDC-F3DC0DA01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AC9BD8-9FC4-4879-90F6-26A3D5991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4943EF-5333-4537-97A4-FF62F41F0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CDEA8A-864D-4565-93D4-0EA22D8E0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4B9B876-EDFE-4E37-ADBB-2A00EDD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11B4D4-8CA6-45B2-A214-B26801AAE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823C801-3AB9-4030-ADDA-07AE04B5D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D6565-7A88-4689-9767-FA1E8A2C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C4E14D9-F7B1-491E-8B4D-01B680D76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A65AD7-10D4-440D-A48C-46B1D1E16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3936F-250B-4548-8F85-3DECEC472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316469-EEF6-46B8-A520-3BC297233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BB4DE9-2893-4AB9-AE26-D2D320863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40CD8-F710-4BE2-B06D-C624E076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50EF65-69C8-4DA4-9397-3C14914F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72725-54DB-4C16-8D41-852394030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19F36-6B84-486D-AE45-D7AAA95B7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0CE07-6689-4F75-AE64-51064831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DE8D4-3AFE-4AFE-BB16-33B2730B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DB5EE-4259-4E93-9C77-575FDF7C9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F0DE21-9504-4BD3-93A9-507DD0CC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B51081-92F4-4708-B1B7-2403535A3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910A8EA-57D3-41A9-B0EB-5A3960DCD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5AE06A9-65B0-440F-9E5B-6743BAAAE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A4B1B4-4461-4A4D-A8B6-856F26116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1F22F9-5218-4814-9DC3-55683FD3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484CF5-1726-47F3-9D30-6F435B64C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800596-17C1-4BD5-9B07-7ED695707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5FE39F-C58E-48E2-AE7F-00CDFD8A5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265E-A18E-41E3-BBAB-4BA718B95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C420E3-7E95-49F2-91B0-E92AEB005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9B9CB2-01EC-4230-AD90-FEC3610B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8403172-FA39-4BE3-89C7-E321BDC3B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F2BA61-39B7-4FC9-9025-D721400EF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31FBE2-D696-47E7-A9D1-C0070173C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1A2E5D-5C07-4C5D-AA27-51F535DF4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42F040-37BC-470D-AC6D-8254CDA0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2987C-9F22-457A-81F1-CBD245A4A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67F4B-B3C7-4B24-B8FB-7958CAD20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66AA82-6E59-48ED-AFA4-51BB97F59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2218-D6B9-4EC7-B844-AC8B65E1F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9BBBEE-C4E9-4BB8-95C6-678A0AFB5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3D1811-EB70-492F-9C4B-9D72C0CD4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40E0EA-C71C-46EC-BA00-6A52A9C3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282E9-5DBA-417F-A0F9-15D7B7B0F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917F58-508E-465B-B2EF-E3176BB6D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5B2DCF-0A74-40EB-B370-0EEDB6F4D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45418A-3EA6-47AC-AD5D-DA3074DC0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B1D-9DE5-4A8E-9F00-912A9971B27F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EAC6-78E9-43FD-A38C-F10A04850440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C655B-86B6-4B5B-ACA0-6D84CCE77EB5}" type="datetime">
              <a:rPr b="0" lang="fr-FR" sz="2000" spc="-1" strike="noStrike">
                <a:solidFill>
                  <a:srgbClr val="ffffff"/>
                </a:solidFill>
                <a:latin typeface="Tw Cen MT"/>
              </a:rPr>
              <a:t>28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3de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C8118-F569-434B-8DE5-ED91023B4DF6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18DB-6991-4375-8CDA-18697AB46B20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43D50-522A-4FA0-A7C3-1ED16BAF492B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0328B-9623-4B2C-ADDC-92C03DA0992C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6DA2-40F8-4927-BE5B-8D3CDBFBB843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C8974-87DD-4AE4-A4B0-122E25BA610C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A9886-0F51-4A0B-BEB2-37ADAF3D3ED1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0F960-AFDA-4A6C-A013-F5F11358476F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CF898-C8D9-4A7B-9C6E-D5C3E8ACF02D}" type="slidenum">
              <a:rPr b="1" lang="fr-FR" sz="1400" spc="-1" strike="noStrike">
                <a:solidFill>
                  <a:srgbClr val="323232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C4088-199E-4482-A3AA-7DA0F1C26C29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063A4-FBAF-4D39-A3E3-B748B0B39FEB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45E1-70B7-4DB7-91C3-973ACA0C9181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D47D3-1611-4E91-99F0-A09880801012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56920" y="1714680"/>
            <a:ext cx="5572440" cy="1785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ded1"/>
                </a:solidFill>
                <a:latin typeface="Tw Cen MT"/>
              </a:rPr>
              <a:t>CODAGE NOMBRES ET TEXTE ?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w Cen MT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857160"/>
            <a:ext cx="91440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5"/>
          <p:cNvSpPr/>
          <p:nvPr/>
        </p:nvSpPr>
        <p:spPr>
          <a:xfrm>
            <a:off x="2428920" y="62150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w Cen MT"/>
              </a:rPr>
              <a:t>Spécialité ISN                                           Année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6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34B3-F352-4731-8521-C9BB8AAC365C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295280" cy="752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2960" y="4857840"/>
            <a:ext cx="85716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Pla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Principe du codag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Codage des lettre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4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59710-29AA-4F0C-B125-956D6CA00C46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85920" y="356760"/>
            <a:ext cx="6858000" cy="12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ffffff"/>
                </a:solidFill>
                <a:latin typeface="Tw Cen MT"/>
              </a:rPr>
              <a:t>Principes généraux de codage</a:t>
            </a: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42960" y="1785960"/>
            <a:ext cx="8153280" cy="400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Il y a près de deux siècles, Samuel Morse [1791-1872] nous montrait, avec un certain succès, la manière de coder tout un alphabet uniquement à l'aide de deux symboles: un point et un trait.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Logiquement, la chose ne devrait pas présenter trop de problème avec des "1" et des "0", ce que démontra d'ailleurs l'ingénieur français Emile Baudot [1845-1903] dès 1870 avec brio..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De fait, le principe général du codage binaire du texte est désarmant d'évidence: à chaque caractère que l'on veut coder, on associe un nombre donné, toujours identique.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Pour mener à bien cette numérisation, trois éléments s'avèrent nécessaires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Un jeu de caractères (character set), ou répertoire (repertoire) , décrivant tous les caractères que l'on désire pouvoir utiliser,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Une table de référence (character map), attribuant à chaque caractère du répertoire un code numérique unique,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Une technique d'encodage (encoding), permettant de transformer le code numérique de chaque caractère sous forme binaire, c'est-à-dire d'octet(s)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CE240-85D5-4D51-9AE5-AEF76B8EF264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Picture 7" descr="Samuel Morse"/>
          <p:cNvPicPr/>
          <p:nvPr/>
        </p:nvPicPr>
        <p:blipFill>
          <a:blip r:embed="rId1"/>
          <a:stretch/>
        </p:blipFill>
        <p:spPr>
          <a:xfrm>
            <a:off x="0" y="0"/>
            <a:ext cx="1143000" cy="125748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9" descr="Emile Baudot"/>
          <p:cNvPicPr/>
          <p:nvPr/>
        </p:nvPicPr>
        <p:blipFill>
          <a:blip r:embed="rId2"/>
          <a:stretch/>
        </p:blipFill>
        <p:spPr>
          <a:xfrm>
            <a:off x="8001000" y="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ASCII: la table de l'aloi</a:t>
            </a: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642960" y="1785600"/>
            <a:ext cx="81532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Très longtemps, la table de référence la plus utilisée en informatique fut la table ASCII (American Standard Code for Information Interchange), table compilant un jeu de 128 caractères ci-dessous décrit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Cette relative petitesse de la table ASCII avait néanmoins l'avantage de rendre aisé l'encodage de ses caractères, chacun pouvant être transcrit sous la forme d'un unique octet sans instruction particulièr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2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DE99-4D70-4883-A63D-2E78DD41D851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ASCII: la table de l'aloi</a:t>
            </a: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90160" indent="-29016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tte table, véritable légende de l'informatique médiévale, appelle illico quelques commentaires bien sentis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6B6ED-463F-47FE-ABDD-A0F29033DAF2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500040" y="1500120"/>
          <a:ext cx="8143920" cy="4664160"/>
        </p:xfrm>
        <a:graphic>
          <a:graphicData uri="http://schemas.openxmlformats.org/drawingml/2006/table">
            <a:tbl>
              <a:tblPr/>
              <a:tblGrid>
                <a:gridCol w="479520"/>
                <a:gridCol w="479520"/>
                <a:gridCol w="477720"/>
                <a:gridCol w="479520"/>
                <a:gridCol w="479160"/>
                <a:gridCol w="479520"/>
                <a:gridCol w="477720"/>
                <a:gridCol w="479520"/>
                <a:gridCol w="479520"/>
                <a:gridCol w="479520"/>
                <a:gridCol w="477720"/>
                <a:gridCol w="479520"/>
                <a:gridCol w="479160"/>
                <a:gridCol w="479520"/>
                <a:gridCol w="477720"/>
                <a:gridCol w="479520"/>
                <a:gridCol w="4795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O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0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07f09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U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O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T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N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A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C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C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A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Y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T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U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spa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"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#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$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&amp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'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*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,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/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&l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&gt;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@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[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\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^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_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`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9d8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q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{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|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~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D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ec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Calibri"/>
              </a:rPr>
              <a:t>ASCII: la table de l'aloi</a:t>
            </a:r>
            <a:br>
              <a:rPr sz="4400"/>
            </a:b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Extension d'un bit: les tables ASCII étendu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Les successives générations d'ordinateurs et, dans le même temps, les dispositifs de transmission numérique gagnant en fiabilité, le bit de parité perdait peu à peu de son utilité et l'idée de le dédier comme ses sept autres collègues au codage proprement dit laissait augurer de nouvelles tables de référence deux fois plus vast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La table ASCII étant devenue incontournable, il n'était pas question de bouleverser les 128 codes déjà assignés mais simplement d'ajouter à ceux-ci 128 autres caractères qui permettraient ainsi d'obtenir des tables ASCII étendu (Extended ASCII), totalement compatibles avec leur aïeul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213480" indent="-2134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Cette table, véritable légende de l'informatique médiévale, appelle illico quelques commentaires bien sentis: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7C7C4-0CE7-4EF1-A254-F48E24FE8516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Les tables d'O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En 1981, une petite société américaine du nom d'IBM s'apprête à engranger du dollar en lançant son dernier bébé: le PC-AT, ordinateur révolutionnaire dont l'une des caractéristiques qui nous intéresse plus particulièrement ici est l'adoption, pour la première fois, d'une table de référence par défaut codée sur huit bit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Dans le sillage d'IBM, une autre petite société du nom de Microsoft est sollicitée afin de fournir une interface logicielle à la bête. Celle-ci crée donc pour l'occasion une application originale qu'elle baptise DOS (Disk Operating System), ou, pour parler en ASCII-FR, système d'exploitation de disqu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Parmi les fonctionnalités du DOS, la très agréable possibilité de charger au démarrage de la machine une table de référence de son choix, permettant ainsi à chaque utilisateur de retrouver son alphabet national ainsi que tous ses caractères spécifiques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CDFF5-4F7F-4AF4-8432-0C91A5641340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8766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fr-FR" sz="2800" spc="-1" strike="noStrike">
                <a:solidFill>
                  <a:srgbClr val="ffffff"/>
                </a:solidFill>
                <a:latin typeface="Calibri"/>
              </a:rPr>
              <a:t>Les tables d'OS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A cette fin, différentes tables de référence, baptisées pour l'occasion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pages de code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codepage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) furent mises au point, de manière plus ou moins pertinente et linguistiquement sensée.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Ainsi, tandis que la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page de code 437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, également baptisée 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Extended ASCII OEM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 (Original Equipment Manufacturer) constituait la page de code par défaut, nous, heureux Européens occidentaux, nous voyions proposée la codepage 850, dite "</a:t>
            </a:r>
            <a:r>
              <a:rPr b="1" lang="fr-FR" sz="1600" spc="-1" strike="noStrike">
                <a:solidFill>
                  <a:srgbClr val="ffffff"/>
                </a:solidFill>
                <a:latin typeface="Calibri"/>
              </a:rPr>
              <a:t>multilingual latin-1</a:t>
            </a:r>
            <a:r>
              <a:rPr b="0" lang="fr-FR" sz="1600" spc="-1" strike="noStrike">
                <a:solidFill>
                  <a:srgbClr val="ffffff"/>
                </a:solidFill>
                <a:latin typeface="Calibri"/>
              </a:rPr>
              <a:t>"</a:t>
            </a: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 algn="just">
              <a:lnSpc>
                <a:spcPct val="10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280E6-5863-4391-A04C-FBEDA6962D3A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36:47Z</dcterms:created>
  <dc:creator>Claire</dc:creator>
  <dc:description/>
  <dc:language>en-US</dc:language>
  <cp:lastModifiedBy>Proprietaire</cp:lastModifiedBy>
  <dcterms:modified xsi:type="dcterms:W3CDTF">2012-05-03T13:14:05Z</dcterms:modified>
  <cp:revision>83</cp:revision>
  <dc:subject/>
  <dc:title>Tracker solaire</dc:title>
</cp:coreProperties>
</file>