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4.jpeg" ContentType="image/jpeg"/>
  <Override PartName="/ppt/media/image2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698E3-1611-462B-8FFB-F6FB123EA1D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CEABC-2009-4B21-8C00-7171EE902F84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59C60-348D-4A3D-87D6-77167CBED59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86303-7217-445F-89C8-2BE8A099902F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CBFD8-39A6-4F3E-93E3-E81CE71CBC0A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88FD2-9085-4284-AB48-9D77D1011D3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7DE0-88FA-46C1-9A21-CF7746091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8361-69FE-4E62-BAFE-CC85CE3C9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5DF4-D6E8-494E-ABCF-28D16CF5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CBC6-7C73-415C-A09E-8CB3BDD5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97BDD-9B51-4B9C-9FDA-549EDBC32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35DB-249A-4DA8-8A83-FDAC491FA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AA2F-9632-47F5-804F-D3D8D008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49FB-6F1C-4926-863C-EFF2455FC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C170D-EA56-4EBA-9ECC-789AC006A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C7DF3-6D56-4EC1-8F64-0BB6913DB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D318B-FB06-4801-A351-93F3DC9C6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66995-315C-4C65-8174-32C1886C7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8268-69A9-42DA-8A30-ED2C5B4C7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9667A-7ACE-455F-83EF-F9324288A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07A8C-79FA-46A7-B54B-4764FDBE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BBEF4-ABFA-4511-9E9B-5745EA60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5EBE7-3F43-44B2-85A5-8BEFDA3C46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F41BF-C3CE-40A2-9A15-9B4317EC3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10E56-E8D9-4B23-A62F-7C40B380B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4109-2EBE-4C1B-90A9-65844EE31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2F3-258C-43BC-9BEA-BFF25E5F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F535-D64B-4DDD-BEAF-EA62561C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B713-71A2-4965-9AFA-051F85E4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81724-F5BA-46A1-8D59-0434C44E7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C47D-A6F0-4E8B-B41A-3E13BBBE38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Arrondir un rectangle avec un coin diagonal 7" descr=""/>
          <p:cNvPicPr/>
          <p:nvPr/>
        </p:nvPicPr>
        <p:blipFill>
          <a:blip r:embed="rId2"/>
          <a:stretch/>
        </p:blipFill>
        <p:spPr>
          <a:xfrm>
            <a:off x="-49320" y="-115920"/>
            <a:ext cx="9242640" cy="871560"/>
          </a:xfrm>
          <a:prstGeom prst="rect">
            <a:avLst/>
          </a:prstGeom>
          <a:ln w="0">
            <a:noFill/>
          </a:ln>
        </p:spPr>
      </p:pic>
      <p:pic>
        <p:nvPicPr>
          <p:cNvPr id="42" name="Image 33" descr="Description : C:\Users\user\Documents\01- Lycée\15-Logos\Nouveau logo\Logo-Benjam-2011-1000px.png"/>
          <p:cNvPicPr/>
          <p:nvPr/>
        </p:nvPicPr>
        <p:blipFill>
          <a:blip r:embed="rId3"/>
          <a:stretch/>
        </p:blipFill>
        <p:spPr>
          <a:xfrm>
            <a:off x="8323200" y="55440"/>
            <a:ext cx="820800" cy="405000"/>
          </a:xfrm>
          <a:prstGeom prst="rect">
            <a:avLst/>
          </a:prstGeom>
          <a:ln w="0">
            <a:noFill/>
          </a:ln>
        </p:spPr>
      </p:pic>
      <p:pic>
        <p:nvPicPr>
          <p:cNvPr id="43" name="Image 9" descr=""/>
          <p:cNvPicPr/>
          <p:nvPr/>
        </p:nvPicPr>
        <p:blipFill>
          <a:blip r:embed="rId4"/>
          <a:stretch/>
        </p:blipFill>
        <p:spPr>
          <a:xfrm>
            <a:off x="0" y="0"/>
            <a:ext cx="501480" cy="515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8D43C-EA34-4E06-A56E-2FFC1DC113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792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Architecture 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ZoneTexte 2048"/>
          <p:cNvSpPr/>
          <p:nvPr/>
        </p:nvSpPr>
        <p:spPr>
          <a:xfrm>
            <a:off x="674640" y="1916280"/>
            <a:ext cx="2865600" cy="10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</a:rPr>
              <a:t>Internet</a:t>
            </a: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 est un ensemble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mage 1" descr=""/>
          <p:cNvPicPr/>
          <p:nvPr/>
        </p:nvPicPr>
        <p:blipFill>
          <a:blip r:embed="rId1"/>
          <a:stretch/>
        </p:blipFill>
        <p:spPr>
          <a:xfrm>
            <a:off x="4211640" y="2149560"/>
            <a:ext cx="4373640" cy="4373640"/>
          </a:xfrm>
          <a:prstGeom prst="rect">
            <a:avLst/>
          </a:prstGeom>
          <a:ln w="0">
            <a:noFill/>
          </a:ln>
        </p:spPr>
      </p:pic>
      <p:sp>
        <p:nvSpPr>
          <p:cNvPr id="95" name="ZoneTexte 18"/>
          <p:cNvSpPr/>
          <p:nvPr/>
        </p:nvSpPr>
        <p:spPr>
          <a:xfrm>
            <a:off x="665280" y="3770280"/>
            <a:ext cx="286524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relié par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Groupe 3"/>
          <p:cNvGrpSpPr/>
          <p:nvPr/>
        </p:nvGrpSpPr>
        <p:grpSpPr>
          <a:xfrm>
            <a:off x="674640" y="2974320"/>
            <a:ext cx="4905360" cy="689760"/>
            <a:chOff x="674640" y="2974320"/>
            <a:chExt cx="4905360" cy="689760"/>
          </a:xfrm>
        </p:grpSpPr>
        <p:pic>
          <p:nvPicPr>
            <p:cNvPr id="97" name="ZoneTexte 19" descr=""/>
            <p:cNvPicPr/>
            <p:nvPr/>
          </p:nvPicPr>
          <p:blipFill>
            <a:blip r:embed="rId2"/>
            <a:stretch/>
          </p:blipFill>
          <p:spPr>
            <a:xfrm>
              <a:off x="674640" y="2997720"/>
              <a:ext cx="2866320" cy="666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98" name="Connecteur droit avec flèche 5"/>
            <p:cNvCxnSpPr/>
            <p:nvPr/>
          </p:nvCxnSpPr>
          <p:spPr>
            <a:xfrm flipV="1">
              <a:off x="2914560" y="2974320"/>
              <a:ext cx="2665800" cy="304920"/>
            </a:xfrm>
            <a:prstGeom prst="straightConnector1">
              <a:avLst/>
            </a:prstGeom>
            <a:ln w="38160">
              <a:solidFill>
                <a:srgbClr val="7030a0"/>
              </a:solidFill>
              <a:miter/>
              <a:tailEnd len="med" type="arrow" w="med"/>
            </a:ln>
          </p:spPr>
        </p:cxnSp>
      </p:grpSp>
      <p:grpSp>
        <p:nvGrpSpPr>
          <p:cNvPr id="99" name="Groupe 4"/>
          <p:cNvGrpSpPr/>
          <p:nvPr/>
        </p:nvGrpSpPr>
        <p:grpSpPr>
          <a:xfrm>
            <a:off x="665280" y="4149000"/>
            <a:ext cx="4267440" cy="892800"/>
            <a:chOff x="665280" y="4149000"/>
            <a:chExt cx="4267440" cy="892800"/>
          </a:xfrm>
        </p:grpSpPr>
        <p:pic>
          <p:nvPicPr>
            <p:cNvPr id="100" name="ZoneTexte 26" descr=""/>
            <p:cNvPicPr/>
            <p:nvPr/>
          </p:nvPicPr>
          <p:blipFill>
            <a:blip r:embed="rId3"/>
            <a:stretch/>
          </p:blipFill>
          <p:spPr>
            <a:xfrm>
              <a:off x="665280" y="4334760"/>
              <a:ext cx="2864520" cy="7070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1" name="Connecteur droit avec flèche 27"/>
            <p:cNvCxnSpPr/>
            <p:nvPr/>
          </p:nvCxnSpPr>
          <p:spPr>
            <a:xfrm flipV="1">
              <a:off x="2627640" y="4149000"/>
              <a:ext cx="2305440" cy="484920"/>
            </a:xfrm>
            <a:prstGeom prst="straightConnector1">
              <a:avLst/>
            </a:prstGeom>
            <a:ln w="38160">
              <a:solidFill>
                <a:srgbClr val="ffc000"/>
              </a:solidFill>
              <a:miter/>
              <a:tailEnd len="med" type="arrow" w="med"/>
            </a:ln>
          </p:spPr>
        </p:cxnSp>
      </p:grpSp>
      <p:sp>
        <p:nvSpPr>
          <p:cNvPr id="102" name="Rectangle 11"/>
          <p:cNvSpPr/>
          <p:nvPr/>
        </p:nvSpPr>
        <p:spPr>
          <a:xfrm>
            <a:off x="676440" y="5160960"/>
            <a:ext cx="28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et 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e 9"/>
          <p:cNvGrpSpPr/>
          <p:nvPr/>
        </p:nvGrpSpPr>
        <p:grpSpPr>
          <a:xfrm>
            <a:off x="701640" y="5452920"/>
            <a:ext cx="5454720" cy="992160"/>
            <a:chOff x="701640" y="5452920"/>
            <a:chExt cx="5454720" cy="992160"/>
          </a:xfrm>
        </p:grpSpPr>
        <p:pic>
          <p:nvPicPr>
            <p:cNvPr id="104" name="ZoneTexte 30" descr=""/>
            <p:cNvPicPr/>
            <p:nvPr/>
          </p:nvPicPr>
          <p:blipFill>
            <a:blip r:embed="rId4"/>
            <a:stretch/>
          </p:blipFill>
          <p:spPr>
            <a:xfrm>
              <a:off x="701640" y="5727240"/>
              <a:ext cx="2864880" cy="71784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05" name="Connecteur droit avec flèche 33"/>
            <p:cNvCxnSpPr/>
            <p:nvPr/>
          </p:nvCxnSpPr>
          <p:spPr>
            <a:xfrm flipV="1">
              <a:off x="2987640" y="5452920"/>
              <a:ext cx="3169080" cy="576360"/>
            </a:xfrm>
            <a:prstGeom prst="straightConnector1">
              <a:avLst/>
            </a:prstGeom>
            <a:ln w="38160">
              <a:solidFill>
                <a:srgbClr val="00b050"/>
              </a:solidFill>
              <a:miter/>
              <a:tailEnd len="med" type="arrow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792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Masque de réseau : Exercices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733320" y="1844640"/>
          <a:ext cx="7635960" cy="4664160"/>
        </p:xfrm>
        <a:graphic>
          <a:graphicData uri="http://schemas.openxmlformats.org/drawingml/2006/table">
            <a:tbl>
              <a:tblPr/>
              <a:tblGrid>
                <a:gridCol w="4813560"/>
                <a:gridCol w="282240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esse IP d’hô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e du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que  de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esse de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esse de diffu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total de bits d’hô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’hô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esse premier hô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esse dernier hô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96" name="ZoneTexte 10"/>
          <p:cNvSpPr/>
          <p:nvPr/>
        </p:nvSpPr>
        <p:spPr>
          <a:xfrm>
            <a:off x="5508720" y="231624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Classe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oneTexte 11"/>
          <p:cNvSpPr/>
          <p:nvPr/>
        </p:nvSpPr>
        <p:spPr>
          <a:xfrm>
            <a:off x="5508720" y="285768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255.255.255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ZoneTexte 12"/>
          <p:cNvSpPr/>
          <p:nvPr/>
        </p:nvSpPr>
        <p:spPr>
          <a:xfrm>
            <a:off x="5524560" y="3379680"/>
            <a:ext cx="28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92.168.1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ZoneTexte 13"/>
          <p:cNvSpPr/>
          <p:nvPr/>
        </p:nvSpPr>
        <p:spPr>
          <a:xfrm>
            <a:off x="5508720" y="387180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92.168.10.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ZoneTexte 14"/>
          <p:cNvSpPr/>
          <p:nvPr/>
        </p:nvSpPr>
        <p:spPr>
          <a:xfrm>
            <a:off x="5510160" y="439416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ZoneTexte 15"/>
          <p:cNvSpPr/>
          <p:nvPr/>
        </p:nvSpPr>
        <p:spPr>
          <a:xfrm>
            <a:off x="5508720" y="491796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25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ZoneTexte 16"/>
          <p:cNvSpPr/>
          <p:nvPr/>
        </p:nvSpPr>
        <p:spPr>
          <a:xfrm>
            <a:off x="5524560" y="1835280"/>
            <a:ext cx="28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92.168.10.2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ZoneTexte 17"/>
          <p:cNvSpPr/>
          <p:nvPr/>
        </p:nvSpPr>
        <p:spPr>
          <a:xfrm>
            <a:off x="5532480" y="5440320"/>
            <a:ext cx="28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92.168.1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ZoneTexte 18"/>
          <p:cNvSpPr/>
          <p:nvPr/>
        </p:nvSpPr>
        <p:spPr>
          <a:xfrm>
            <a:off x="5559480" y="599292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92.168.10.2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7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792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Masque de réseau : Exercices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733320" y="1844640"/>
          <a:ext cx="7635960" cy="4664160"/>
        </p:xfrm>
        <a:graphic>
          <a:graphicData uri="http://schemas.openxmlformats.org/drawingml/2006/table">
            <a:tbl>
              <a:tblPr/>
              <a:tblGrid>
                <a:gridCol w="4813560"/>
                <a:gridCol w="282240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esse IP d’hô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lasse du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sque  de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esse de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esse de diffus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total de bits d’hôt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’hô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esse premier hô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dresse dernier hô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07" name="ZoneTexte 10"/>
          <p:cNvSpPr/>
          <p:nvPr/>
        </p:nvSpPr>
        <p:spPr>
          <a:xfrm>
            <a:off x="5508720" y="231624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Classe 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ZoneTexte 11"/>
          <p:cNvSpPr/>
          <p:nvPr/>
        </p:nvSpPr>
        <p:spPr>
          <a:xfrm>
            <a:off x="5508720" y="285768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255.255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ZoneTexte 12"/>
          <p:cNvSpPr/>
          <p:nvPr/>
        </p:nvSpPr>
        <p:spPr>
          <a:xfrm>
            <a:off x="5524560" y="3379680"/>
            <a:ext cx="28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72.3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ZoneTexte 13"/>
          <p:cNvSpPr/>
          <p:nvPr/>
        </p:nvSpPr>
        <p:spPr>
          <a:xfrm>
            <a:off x="5508720" y="387180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72.30.255.2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ZoneTexte 14"/>
          <p:cNvSpPr/>
          <p:nvPr/>
        </p:nvSpPr>
        <p:spPr>
          <a:xfrm>
            <a:off x="5580000" y="4394160"/>
            <a:ext cx="2833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ZoneTexte 15"/>
          <p:cNvSpPr/>
          <p:nvPr/>
        </p:nvSpPr>
        <p:spPr>
          <a:xfrm>
            <a:off x="5508720" y="491796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65 53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ZoneTexte 16"/>
          <p:cNvSpPr/>
          <p:nvPr/>
        </p:nvSpPr>
        <p:spPr>
          <a:xfrm>
            <a:off x="5524560" y="1835280"/>
            <a:ext cx="28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72.30.1.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ZoneTexte 17"/>
          <p:cNvSpPr/>
          <p:nvPr/>
        </p:nvSpPr>
        <p:spPr>
          <a:xfrm>
            <a:off x="5532480" y="5440320"/>
            <a:ext cx="28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72.30.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ZoneTexte 18"/>
          <p:cNvSpPr/>
          <p:nvPr/>
        </p:nvSpPr>
        <p:spPr>
          <a:xfrm>
            <a:off x="5559480" y="5992920"/>
            <a:ext cx="283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72.30.255.2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792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Adressages IP public et priv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2" descr=""/>
          <p:cNvPicPr/>
          <p:nvPr/>
        </p:nvPicPr>
        <p:blipFill>
          <a:blip r:embed="rId1"/>
          <a:stretch/>
        </p:blipFill>
        <p:spPr>
          <a:xfrm>
            <a:off x="1403280" y="3040200"/>
            <a:ext cx="6726240" cy="2523960"/>
          </a:xfrm>
          <a:prstGeom prst="rect">
            <a:avLst/>
          </a:prstGeom>
          <a:ln w="0">
            <a:noFill/>
          </a:ln>
        </p:spPr>
      </p:pic>
      <p:grpSp>
        <p:nvGrpSpPr>
          <p:cNvPr id="218" name="Groupe 2"/>
          <p:cNvGrpSpPr/>
          <p:nvPr/>
        </p:nvGrpSpPr>
        <p:grpSpPr>
          <a:xfrm>
            <a:off x="1549440" y="1916280"/>
            <a:ext cx="6910200" cy="1800000"/>
            <a:chOff x="1549440" y="1916280"/>
            <a:chExt cx="6910200" cy="1800000"/>
          </a:xfrm>
        </p:grpSpPr>
        <p:pic>
          <p:nvPicPr>
            <p:cNvPr id="219" name="ZoneTexte 2048" descr=""/>
            <p:cNvPicPr/>
            <p:nvPr/>
          </p:nvPicPr>
          <p:blipFill>
            <a:blip r:embed="rId2"/>
            <a:stretch/>
          </p:blipFill>
          <p:spPr>
            <a:xfrm>
              <a:off x="1549440" y="1916280"/>
              <a:ext cx="6793920" cy="84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ZoneTexte 19" descr=""/>
            <p:cNvPicPr/>
            <p:nvPr/>
          </p:nvPicPr>
          <p:blipFill>
            <a:blip r:embed="rId3"/>
            <a:stretch/>
          </p:blipFill>
          <p:spPr>
            <a:xfrm>
              <a:off x="1613160" y="2455200"/>
              <a:ext cx="6846480" cy="109512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21" name="Connecteur droit avec flèche 14"/>
            <p:cNvCxnSpPr/>
            <p:nvPr/>
          </p:nvCxnSpPr>
          <p:spPr>
            <a:xfrm>
              <a:off x="5505840" y="3079080"/>
              <a:ext cx="1080" cy="637560"/>
            </a:xfrm>
            <a:prstGeom prst="straightConnector1">
              <a:avLst/>
            </a:prstGeom>
            <a:ln w="38160">
              <a:solidFill>
                <a:srgbClr val="7030a0"/>
              </a:solidFill>
              <a:miter/>
              <a:tailEnd len="med" type="arrow" w="med"/>
            </a:ln>
          </p:spPr>
        </p:cxnSp>
      </p:grpSp>
      <p:grpSp>
        <p:nvGrpSpPr>
          <p:cNvPr id="222" name="Groupe 17"/>
          <p:cNvGrpSpPr/>
          <p:nvPr/>
        </p:nvGrpSpPr>
        <p:grpSpPr>
          <a:xfrm>
            <a:off x="1190520" y="4941000"/>
            <a:ext cx="6939000" cy="1810800"/>
            <a:chOff x="1190520" y="4941000"/>
            <a:chExt cx="6939000" cy="1810800"/>
          </a:xfrm>
        </p:grpSpPr>
        <p:pic>
          <p:nvPicPr>
            <p:cNvPr id="223" name="ZoneTexte 31" descr=""/>
            <p:cNvPicPr/>
            <p:nvPr/>
          </p:nvPicPr>
          <p:blipFill>
            <a:blip r:embed="rId4"/>
            <a:stretch/>
          </p:blipFill>
          <p:spPr>
            <a:xfrm>
              <a:off x="1190520" y="5400720"/>
              <a:ext cx="6939000" cy="135108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224" name="Connecteur droit avec flèche 24"/>
            <p:cNvCxnSpPr/>
            <p:nvPr/>
          </p:nvCxnSpPr>
          <p:spPr>
            <a:xfrm flipH="1" flipV="1">
              <a:off x="3789720" y="4941000"/>
              <a:ext cx="480600" cy="550440"/>
            </a:xfrm>
            <a:prstGeom prst="straightConnector1">
              <a:avLst/>
            </a:prstGeom>
            <a:ln w="38160">
              <a:solidFill>
                <a:srgbClr val="ffc000"/>
              </a:solidFill>
              <a:miter/>
              <a:tailEnd len="med" type="arrow" w="med"/>
            </a:ln>
          </p:spPr>
        </p:cxnSp>
      </p:grpSp>
      <p:sp>
        <p:nvSpPr>
          <p:cNvPr id="225" name="Freeform 11"/>
          <p:cNvSpPr/>
          <p:nvPr/>
        </p:nvSpPr>
        <p:spPr>
          <a:xfrm>
            <a:off x="1422360" y="3005280"/>
            <a:ext cx="3355920" cy="2579400"/>
          </a:xfrm>
          <a:custGeom>
            <a:avLst/>
            <a:gdLst>
              <a:gd name="textAreaLeft" fmla="*/ 0 w 3355920"/>
              <a:gd name="textAreaRight" fmla="*/ 3356280 w 3355920"/>
              <a:gd name="textAreaTop" fmla="*/ 0 h 2579400"/>
              <a:gd name="textAreaBottom" fmla="*/ 2579400 h 2579400"/>
            </a:gdLst>
            <a:ahLst/>
            <a:rect l="textAreaLeft" t="textAreaTop" r="textAreaRight" b="textAreaBottom"/>
            <a:pathLst>
              <a:path w="2114" h="1625">
                <a:moveTo>
                  <a:pt x="2052" y="215"/>
                </a:moveTo>
                <a:cubicBezTo>
                  <a:pt x="2053" y="223"/>
                  <a:pt x="2056" y="231"/>
                  <a:pt x="2056" y="239"/>
                </a:cubicBezTo>
                <a:cubicBezTo>
                  <a:pt x="2056" y="477"/>
                  <a:pt x="2114" y="494"/>
                  <a:pt x="1944" y="503"/>
                </a:cubicBezTo>
                <a:cubicBezTo>
                  <a:pt x="1918" y="506"/>
                  <a:pt x="1908" y="506"/>
                  <a:pt x="1888" y="519"/>
                </a:cubicBezTo>
                <a:cubicBezTo>
                  <a:pt x="1883" y="534"/>
                  <a:pt x="1881" y="548"/>
                  <a:pt x="1876" y="563"/>
                </a:cubicBezTo>
                <a:cubicBezTo>
                  <a:pt x="1879" y="625"/>
                  <a:pt x="1868" y="627"/>
                  <a:pt x="1900" y="659"/>
                </a:cubicBezTo>
                <a:cubicBezTo>
                  <a:pt x="1897" y="733"/>
                  <a:pt x="1912" y="755"/>
                  <a:pt x="1852" y="775"/>
                </a:cubicBezTo>
                <a:cubicBezTo>
                  <a:pt x="1848" y="793"/>
                  <a:pt x="1850" y="801"/>
                  <a:pt x="1832" y="807"/>
                </a:cubicBezTo>
                <a:cubicBezTo>
                  <a:pt x="1813" y="826"/>
                  <a:pt x="1797" y="849"/>
                  <a:pt x="1776" y="867"/>
                </a:cubicBezTo>
                <a:cubicBezTo>
                  <a:pt x="1759" y="882"/>
                  <a:pt x="1737" y="892"/>
                  <a:pt x="1720" y="907"/>
                </a:cubicBezTo>
                <a:cubicBezTo>
                  <a:pt x="1707" y="918"/>
                  <a:pt x="1705" y="929"/>
                  <a:pt x="1688" y="935"/>
                </a:cubicBezTo>
                <a:cubicBezTo>
                  <a:pt x="1676" y="953"/>
                  <a:pt x="1659" y="968"/>
                  <a:pt x="1644" y="983"/>
                </a:cubicBezTo>
                <a:cubicBezTo>
                  <a:pt x="1633" y="994"/>
                  <a:pt x="1629" y="1010"/>
                  <a:pt x="1620" y="1023"/>
                </a:cubicBezTo>
                <a:cubicBezTo>
                  <a:pt x="1599" y="1055"/>
                  <a:pt x="1579" y="1085"/>
                  <a:pt x="1556" y="1115"/>
                </a:cubicBezTo>
                <a:cubicBezTo>
                  <a:pt x="1550" y="1134"/>
                  <a:pt x="1547" y="1155"/>
                  <a:pt x="1536" y="1171"/>
                </a:cubicBezTo>
                <a:cubicBezTo>
                  <a:pt x="1530" y="1195"/>
                  <a:pt x="1522" y="1223"/>
                  <a:pt x="1508" y="1243"/>
                </a:cubicBezTo>
                <a:cubicBezTo>
                  <a:pt x="1504" y="1258"/>
                  <a:pt x="1497" y="1268"/>
                  <a:pt x="1492" y="1283"/>
                </a:cubicBezTo>
                <a:cubicBezTo>
                  <a:pt x="1482" y="1352"/>
                  <a:pt x="1455" y="1413"/>
                  <a:pt x="1424" y="1475"/>
                </a:cubicBezTo>
                <a:cubicBezTo>
                  <a:pt x="1414" y="1494"/>
                  <a:pt x="1416" y="1513"/>
                  <a:pt x="1396" y="1527"/>
                </a:cubicBezTo>
                <a:cubicBezTo>
                  <a:pt x="1367" y="1546"/>
                  <a:pt x="1337" y="1554"/>
                  <a:pt x="1304" y="1563"/>
                </a:cubicBezTo>
                <a:cubicBezTo>
                  <a:pt x="1286" y="1568"/>
                  <a:pt x="1262" y="1586"/>
                  <a:pt x="1244" y="1587"/>
                </a:cubicBezTo>
                <a:cubicBezTo>
                  <a:pt x="1104" y="1594"/>
                  <a:pt x="1188" y="1590"/>
                  <a:pt x="992" y="1595"/>
                </a:cubicBezTo>
                <a:cubicBezTo>
                  <a:pt x="874" y="1625"/>
                  <a:pt x="750" y="1611"/>
                  <a:pt x="632" y="1587"/>
                </a:cubicBezTo>
                <a:cubicBezTo>
                  <a:pt x="616" y="1577"/>
                  <a:pt x="600" y="1579"/>
                  <a:pt x="584" y="1571"/>
                </a:cubicBezTo>
                <a:cubicBezTo>
                  <a:pt x="552" y="1555"/>
                  <a:pt x="521" y="1540"/>
                  <a:pt x="488" y="1527"/>
                </a:cubicBezTo>
                <a:cubicBezTo>
                  <a:pt x="476" y="1509"/>
                  <a:pt x="449" y="1496"/>
                  <a:pt x="428" y="1491"/>
                </a:cubicBezTo>
                <a:cubicBezTo>
                  <a:pt x="378" y="1458"/>
                  <a:pt x="314" y="1448"/>
                  <a:pt x="268" y="1411"/>
                </a:cubicBezTo>
                <a:cubicBezTo>
                  <a:pt x="241" y="1389"/>
                  <a:pt x="193" y="1352"/>
                  <a:pt x="172" y="1327"/>
                </a:cubicBezTo>
                <a:cubicBezTo>
                  <a:pt x="159" y="1311"/>
                  <a:pt x="149" y="1294"/>
                  <a:pt x="132" y="1283"/>
                </a:cubicBezTo>
                <a:cubicBezTo>
                  <a:pt x="115" y="1257"/>
                  <a:pt x="98" y="1233"/>
                  <a:pt x="80" y="1207"/>
                </a:cubicBezTo>
                <a:cubicBezTo>
                  <a:pt x="62" y="1180"/>
                  <a:pt x="73" y="1209"/>
                  <a:pt x="60" y="1183"/>
                </a:cubicBezTo>
                <a:cubicBezTo>
                  <a:pt x="56" y="1175"/>
                  <a:pt x="52" y="1167"/>
                  <a:pt x="48" y="1159"/>
                </a:cubicBezTo>
                <a:cubicBezTo>
                  <a:pt x="45" y="1151"/>
                  <a:pt x="40" y="1135"/>
                  <a:pt x="40" y="1135"/>
                </a:cubicBezTo>
                <a:cubicBezTo>
                  <a:pt x="39" y="1003"/>
                  <a:pt x="85" y="811"/>
                  <a:pt x="0" y="683"/>
                </a:cubicBezTo>
                <a:cubicBezTo>
                  <a:pt x="5" y="508"/>
                  <a:pt x="3" y="334"/>
                  <a:pt x="8" y="159"/>
                </a:cubicBezTo>
                <a:cubicBezTo>
                  <a:pt x="9" y="140"/>
                  <a:pt x="20" y="124"/>
                  <a:pt x="36" y="119"/>
                </a:cubicBezTo>
                <a:cubicBezTo>
                  <a:pt x="53" y="102"/>
                  <a:pt x="81" y="89"/>
                  <a:pt x="104" y="83"/>
                </a:cubicBezTo>
                <a:cubicBezTo>
                  <a:pt x="228" y="0"/>
                  <a:pt x="499" y="48"/>
                  <a:pt x="572" y="47"/>
                </a:cubicBezTo>
                <a:cubicBezTo>
                  <a:pt x="607" y="35"/>
                  <a:pt x="588" y="40"/>
                  <a:pt x="632" y="35"/>
                </a:cubicBezTo>
                <a:cubicBezTo>
                  <a:pt x="743" y="37"/>
                  <a:pt x="834" y="40"/>
                  <a:pt x="940" y="55"/>
                </a:cubicBezTo>
                <a:cubicBezTo>
                  <a:pt x="969" y="65"/>
                  <a:pt x="1002" y="65"/>
                  <a:pt x="1032" y="71"/>
                </a:cubicBezTo>
                <a:cubicBezTo>
                  <a:pt x="1104" y="85"/>
                  <a:pt x="1178" y="113"/>
                  <a:pt x="1252" y="115"/>
                </a:cubicBezTo>
                <a:cubicBezTo>
                  <a:pt x="1424" y="119"/>
                  <a:pt x="1768" y="123"/>
                  <a:pt x="1768" y="123"/>
                </a:cubicBezTo>
                <a:cubicBezTo>
                  <a:pt x="1824" y="126"/>
                  <a:pt x="1861" y="128"/>
                  <a:pt x="1912" y="139"/>
                </a:cubicBezTo>
                <a:cubicBezTo>
                  <a:pt x="1937" y="144"/>
                  <a:pt x="1960" y="158"/>
                  <a:pt x="1984" y="163"/>
                </a:cubicBezTo>
                <a:cubicBezTo>
                  <a:pt x="2004" y="167"/>
                  <a:pt x="2021" y="169"/>
                  <a:pt x="2040" y="175"/>
                </a:cubicBezTo>
                <a:cubicBezTo>
                  <a:pt x="2047" y="196"/>
                  <a:pt x="2043" y="183"/>
                  <a:pt x="2052" y="215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nodeType="clickEffect" fill="hold">
                      <p:stCondLst>
                        <p:cond delay="indefinite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5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792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Exemple d’@IP public et priv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7" name="Picture 7" descr=""/>
          <p:cNvPicPr/>
          <p:nvPr/>
        </p:nvPicPr>
        <p:blipFill>
          <a:blip r:embed="rId1"/>
          <a:srcRect l="0" t="0" r="0" b="73974"/>
          <a:stretch/>
        </p:blipFill>
        <p:spPr>
          <a:xfrm>
            <a:off x="277920" y="1852560"/>
            <a:ext cx="6535800" cy="1506600"/>
          </a:xfrm>
          <a:prstGeom prst="rect">
            <a:avLst/>
          </a:prstGeom>
          <a:ln w="0">
            <a:noFill/>
          </a:ln>
        </p:spPr>
      </p:pic>
      <p:pic>
        <p:nvPicPr>
          <p:cNvPr id="228" name="Image 1" descr=""/>
          <p:cNvPicPr/>
          <p:nvPr/>
        </p:nvPicPr>
        <p:blipFill>
          <a:blip r:embed="rId2"/>
          <a:srcRect l="3061" t="40316" r="4823" b="11647"/>
          <a:stretch/>
        </p:blipFill>
        <p:spPr>
          <a:xfrm>
            <a:off x="739800" y="3549600"/>
            <a:ext cx="7081920" cy="3073320"/>
          </a:xfrm>
          <a:prstGeom prst="rect">
            <a:avLst/>
          </a:prstGeom>
          <a:ln w="0">
            <a:noFill/>
          </a:ln>
        </p:spPr>
      </p:pic>
      <p:grpSp>
        <p:nvGrpSpPr>
          <p:cNvPr id="229" name="Group 35"/>
          <p:cNvGrpSpPr/>
          <p:nvPr/>
        </p:nvGrpSpPr>
        <p:grpSpPr>
          <a:xfrm>
            <a:off x="1157400" y="2154240"/>
            <a:ext cx="4500360" cy="725400"/>
            <a:chOff x="1157400" y="2154240"/>
            <a:chExt cx="4500360" cy="725400"/>
          </a:xfrm>
        </p:grpSpPr>
        <p:sp>
          <p:nvSpPr>
            <p:cNvPr id="230" name="AutoShape 11"/>
            <p:cNvSpPr/>
            <p:nvPr/>
          </p:nvSpPr>
          <p:spPr>
            <a:xfrm>
              <a:off x="1157400" y="2629080"/>
              <a:ext cx="828720" cy="25056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AutoShape 12"/>
            <p:cNvSpPr/>
            <p:nvPr/>
          </p:nvSpPr>
          <p:spPr>
            <a:xfrm>
              <a:off x="2746440" y="2154240"/>
              <a:ext cx="2911320" cy="546120"/>
            </a:xfrm>
            <a:prstGeom prst="wedgeRoundRectCallout">
              <a:avLst>
                <a:gd name="adj1" fmla="val -76064"/>
                <a:gd name="adj2" fmla="val 54069"/>
                <a:gd name="adj3" fmla="val 16667"/>
              </a:avLst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@IP de la livebo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37"/>
          <p:cNvGrpSpPr/>
          <p:nvPr/>
        </p:nvGrpSpPr>
        <p:grpSpPr>
          <a:xfrm>
            <a:off x="174600" y="5241960"/>
            <a:ext cx="6773760" cy="1369800"/>
            <a:chOff x="174600" y="5241960"/>
            <a:chExt cx="6773760" cy="1369800"/>
          </a:xfrm>
        </p:grpSpPr>
        <p:sp>
          <p:nvSpPr>
            <p:cNvPr id="233" name="AutoShape 16"/>
            <p:cNvSpPr/>
            <p:nvPr/>
          </p:nvSpPr>
          <p:spPr>
            <a:xfrm>
              <a:off x="3125880" y="6122880"/>
              <a:ext cx="3822480" cy="48888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AutoShape 17"/>
            <p:cNvSpPr/>
            <p:nvPr/>
          </p:nvSpPr>
          <p:spPr>
            <a:xfrm>
              <a:off x="174600" y="5241960"/>
              <a:ext cx="2506680" cy="1260360"/>
            </a:xfrm>
            <a:prstGeom prst="wedgeRoundRectCallout">
              <a:avLst>
                <a:gd name="adj1" fmla="val 66847"/>
                <a:gd name="adj2" fmla="val 36018"/>
                <a:gd name="adj3" fmla="val 16667"/>
              </a:avLst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@IP et MAC d’une imprimante réseau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Group 36"/>
          <p:cNvGrpSpPr/>
          <p:nvPr/>
        </p:nvGrpSpPr>
        <p:grpSpPr>
          <a:xfrm>
            <a:off x="3086280" y="3541680"/>
            <a:ext cx="5883120" cy="2019240"/>
            <a:chOff x="3086280" y="3541680"/>
            <a:chExt cx="5883120" cy="2019240"/>
          </a:xfrm>
        </p:grpSpPr>
        <p:sp>
          <p:nvSpPr>
            <p:cNvPr id="236" name="AutoShape 15"/>
            <p:cNvSpPr/>
            <p:nvPr/>
          </p:nvSpPr>
          <p:spPr>
            <a:xfrm>
              <a:off x="3086280" y="4840200"/>
              <a:ext cx="2706480" cy="66060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AutoShape 22"/>
            <p:cNvSpPr/>
            <p:nvPr/>
          </p:nvSpPr>
          <p:spPr>
            <a:xfrm>
              <a:off x="6365880" y="3541680"/>
              <a:ext cx="2603520" cy="2019240"/>
            </a:xfrm>
            <a:prstGeom prst="wedgeRoundRectCallout">
              <a:avLst>
                <a:gd name="adj1" fmla="val -71888"/>
                <a:gd name="adj2" fmla="val 31365"/>
                <a:gd name="adj3" fmla="val 16667"/>
              </a:avLst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Plage d’adressage IP privée 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192.168.1.2</a:t>
              </a:r>
              <a:br>
                <a:rPr sz="2400"/>
              </a:br>
              <a:r>
                <a:rPr b="0" lang="fr-FR" sz="2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à</a:t>
              </a:r>
              <a:br>
                <a:rPr sz="2400"/>
              </a:br>
              <a:r>
                <a:rPr b="0" lang="fr-FR" sz="2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192.168.1.25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Rectangle 26"/>
          <p:cNvSpPr/>
          <p:nvPr/>
        </p:nvSpPr>
        <p:spPr>
          <a:xfrm>
            <a:off x="-720" y="-215280"/>
            <a:ext cx="1819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xemple chez un particulier 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9"/>
          <p:cNvSpPr/>
          <p:nvPr/>
        </p:nvSpPr>
        <p:spPr>
          <a:xfrm>
            <a:off x="19080" y="537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30"/>
          <p:cNvSpPr/>
          <p:nvPr/>
        </p:nvSpPr>
        <p:spPr>
          <a:xfrm>
            <a:off x="19080" y="7105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8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1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nodeType="clickEffect" fill="hold">
                      <p:stCondLst>
                        <p:cond delay="indefinite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1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3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428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792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Exemple d’@IP public et privé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2" name="Picture 11" descr=""/>
          <p:cNvPicPr/>
          <p:nvPr/>
        </p:nvPicPr>
        <p:blipFill>
          <a:blip r:embed="rId1"/>
          <a:srcRect l="4918" t="25367" r="6737" b="41541"/>
          <a:stretch/>
        </p:blipFill>
        <p:spPr>
          <a:xfrm>
            <a:off x="3651120" y="4292640"/>
            <a:ext cx="5229360" cy="2320920"/>
          </a:xfrm>
          <a:prstGeom prst="rect">
            <a:avLst/>
          </a:prstGeom>
          <a:ln w="0">
            <a:noFill/>
          </a:ln>
        </p:spPr>
      </p:pic>
      <p:sp>
        <p:nvSpPr>
          <p:cNvPr id="243" name="Rectangle 30"/>
          <p:cNvSpPr/>
          <p:nvPr/>
        </p:nvSpPr>
        <p:spPr>
          <a:xfrm>
            <a:off x="18360" y="-196200"/>
            <a:ext cx="1819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Exemple chez un particulier 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32"/>
          <p:cNvSpPr/>
          <p:nvPr/>
        </p:nvSpPr>
        <p:spPr>
          <a:xfrm>
            <a:off x="19080" y="1371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36"/>
          <p:cNvSpPr/>
          <p:nvPr/>
        </p:nvSpPr>
        <p:spPr>
          <a:xfrm>
            <a:off x="19080" y="3648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Group 50"/>
          <p:cNvGrpSpPr/>
          <p:nvPr/>
        </p:nvGrpSpPr>
        <p:grpSpPr>
          <a:xfrm>
            <a:off x="3460680" y="1946160"/>
            <a:ext cx="5383440" cy="2156040"/>
            <a:chOff x="3460680" y="1946160"/>
            <a:chExt cx="5383440" cy="2156040"/>
          </a:xfrm>
        </p:grpSpPr>
        <p:pic>
          <p:nvPicPr>
            <p:cNvPr id="247" name="Picture 15" descr=""/>
            <p:cNvPicPr/>
            <p:nvPr/>
          </p:nvPicPr>
          <p:blipFill>
            <a:blip r:embed="rId2"/>
            <a:srcRect l="31822" t="42177" r="7933" b="28880"/>
            <a:stretch/>
          </p:blipFill>
          <p:spPr>
            <a:xfrm>
              <a:off x="3460680" y="1946160"/>
              <a:ext cx="5383440" cy="215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16"/>
            <p:cNvSpPr/>
            <p:nvPr/>
          </p:nvSpPr>
          <p:spPr>
            <a:xfrm>
              <a:off x="7867800" y="3373560"/>
              <a:ext cx="690480" cy="155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9" name="Group 49"/>
          <p:cNvGrpSpPr/>
          <p:nvPr/>
        </p:nvGrpSpPr>
        <p:grpSpPr>
          <a:xfrm>
            <a:off x="1047600" y="2759040"/>
            <a:ext cx="7551360" cy="944640"/>
            <a:chOff x="1047600" y="2759040"/>
            <a:chExt cx="7551360" cy="944640"/>
          </a:xfrm>
        </p:grpSpPr>
        <p:sp>
          <p:nvSpPr>
            <p:cNvPr id="250" name="AutoShape 42"/>
            <p:cNvSpPr/>
            <p:nvPr/>
          </p:nvSpPr>
          <p:spPr>
            <a:xfrm>
              <a:off x="5252760" y="3449520"/>
              <a:ext cx="3346200" cy="25416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AutoShape 43"/>
            <p:cNvSpPr/>
            <p:nvPr/>
          </p:nvSpPr>
          <p:spPr>
            <a:xfrm>
              <a:off x="1047600" y="2759040"/>
              <a:ext cx="3773160" cy="870120"/>
            </a:xfrm>
            <a:prstGeom prst="wedgeRoundRectCallout">
              <a:avLst>
                <a:gd name="adj1" fmla="val 61189"/>
                <a:gd name="adj2" fmla="val 39597"/>
                <a:gd name="adj3" fmla="val 16667"/>
              </a:avLst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@IP public</a:t>
              </a:r>
              <a:br>
                <a:rPr sz="2400"/>
              </a:br>
              <a:r>
                <a:rPr b="0" lang="fr-FR" sz="2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WAN (Wide Area Network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Group 51"/>
          <p:cNvGrpSpPr/>
          <p:nvPr/>
        </p:nvGrpSpPr>
        <p:grpSpPr>
          <a:xfrm>
            <a:off x="1062000" y="5681520"/>
            <a:ext cx="6838920" cy="955800"/>
            <a:chOff x="1062000" y="5681520"/>
            <a:chExt cx="6838920" cy="955800"/>
          </a:xfrm>
        </p:grpSpPr>
        <p:sp>
          <p:nvSpPr>
            <p:cNvPr id="253" name="AutoShape 44"/>
            <p:cNvSpPr/>
            <p:nvPr/>
          </p:nvSpPr>
          <p:spPr>
            <a:xfrm>
              <a:off x="4648320" y="6114960"/>
              <a:ext cx="3251160" cy="33984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AutoShape 45"/>
            <p:cNvSpPr/>
            <p:nvPr/>
          </p:nvSpPr>
          <p:spPr>
            <a:xfrm>
              <a:off x="4649760" y="6440400"/>
              <a:ext cx="3251160" cy="196920"/>
            </a:xfrm>
            <a:prstGeom prst="roundRect">
              <a:avLst>
                <a:gd name="adj" fmla="val 16667"/>
              </a:avLst>
            </a:prstGeom>
            <a:noFill/>
            <a:ln w="63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AutoShape 46"/>
            <p:cNvSpPr/>
            <p:nvPr/>
          </p:nvSpPr>
          <p:spPr>
            <a:xfrm>
              <a:off x="1062000" y="5681520"/>
              <a:ext cx="3164040" cy="870120"/>
            </a:xfrm>
            <a:prstGeom prst="wedgeRoundRectCallout">
              <a:avLst>
                <a:gd name="adj1" fmla="val 63347"/>
                <a:gd name="adj2" fmla="val 39597"/>
                <a:gd name="adj3" fmla="val 16667"/>
              </a:avLst>
            </a:prstGeom>
            <a:solidFill>
              <a:srgbClr val="00b0f0"/>
            </a:solidFill>
            <a:ln w="93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  <a:ea typeface="Times New Roman"/>
                </a:rPr>
                <a:t>Adressages IP et MAC de consoles de jeu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0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50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792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Fonctions d’un rés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oneTexte 2048"/>
          <p:cNvSpPr/>
          <p:nvPr/>
        </p:nvSpPr>
        <p:spPr>
          <a:xfrm>
            <a:off x="690480" y="1916280"/>
            <a:ext cx="7769160" cy="55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Les fonctions d’un réseau sont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ZoneTexte 19" descr=""/>
          <p:cNvPicPr/>
          <p:nvPr/>
        </p:nvPicPr>
        <p:blipFill>
          <a:blip r:embed="rId1"/>
          <a:stretch/>
        </p:blipFill>
        <p:spPr>
          <a:xfrm>
            <a:off x="689040" y="2279520"/>
            <a:ext cx="7772400" cy="890640"/>
          </a:xfrm>
          <a:prstGeom prst="rect">
            <a:avLst/>
          </a:prstGeom>
          <a:ln w="0">
            <a:noFill/>
          </a:ln>
        </p:spPr>
      </p:pic>
      <p:pic>
        <p:nvPicPr>
          <p:cNvPr id="109" name="ZoneTexte 26" descr=""/>
          <p:cNvPicPr/>
          <p:nvPr/>
        </p:nvPicPr>
        <p:blipFill>
          <a:blip r:embed="rId2"/>
          <a:stretch/>
        </p:blipFill>
        <p:spPr>
          <a:xfrm>
            <a:off x="689040" y="3505320"/>
            <a:ext cx="7772400" cy="8906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"/>
          <p:cNvPicPr/>
          <p:nvPr/>
        </p:nvPicPr>
        <p:blipFill>
          <a:blip r:embed="rId3"/>
          <a:stretch/>
        </p:blipFill>
        <p:spPr>
          <a:xfrm>
            <a:off x="1090440" y="5175360"/>
            <a:ext cx="1295640" cy="1152360"/>
          </a:xfrm>
          <a:prstGeom prst="rect">
            <a:avLst/>
          </a:prstGeom>
          <a:ln w="0">
            <a:noFill/>
          </a:ln>
        </p:spPr>
      </p:pic>
      <p:sp>
        <p:nvSpPr>
          <p:cNvPr id="111" name="ZoneTexte 25"/>
          <p:cNvSpPr/>
          <p:nvPr/>
        </p:nvSpPr>
        <p:spPr>
          <a:xfrm>
            <a:off x="690480" y="2938320"/>
            <a:ext cx="776916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70c0"/>
                </a:solidFill>
                <a:latin typeface="Calibri"/>
              </a:rPr>
              <a:t>ou </a:t>
            </a:r>
            <a:r>
              <a:rPr b="0" lang="fr-FR" sz="3600" spc="-1" strike="noStrike">
                <a:solidFill>
                  <a:srgbClr val="0070c0"/>
                </a:solidFill>
                <a:latin typeface="Calibri"/>
              </a:rPr>
              <a:t>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Groupe 4"/>
          <p:cNvGrpSpPr/>
          <p:nvPr/>
        </p:nvGrpSpPr>
        <p:grpSpPr>
          <a:xfrm>
            <a:off x="2411280" y="4254480"/>
            <a:ext cx="6048360" cy="2062080"/>
            <a:chOff x="2411280" y="4254480"/>
            <a:chExt cx="6048360" cy="2062080"/>
          </a:xfrm>
        </p:grpSpPr>
        <p:pic>
          <p:nvPicPr>
            <p:cNvPr id="113" name="Connecteur droit avec flèche 5" descr=""/>
            <p:cNvPicPr/>
            <p:nvPr/>
          </p:nvPicPr>
          <p:blipFill>
            <a:blip r:embed="rId4"/>
            <a:stretch/>
          </p:blipFill>
          <p:spPr>
            <a:xfrm>
              <a:off x="2411280" y="5636160"/>
              <a:ext cx="3930120" cy="342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4" name="Connecteur droit avec flèche 27"/>
            <p:cNvCxnSpPr/>
            <p:nvPr/>
          </p:nvCxnSpPr>
          <p:spPr>
            <a:xfrm>
              <a:off x="2582280" y="5655600"/>
              <a:ext cx="3693240" cy="1080"/>
            </a:xfrm>
            <a:prstGeom prst="straightConnector1">
              <a:avLst/>
            </a:prstGeom>
            <a:ln w="25560">
              <a:solidFill>
                <a:srgbClr val="ffc000"/>
              </a:solidFill>
              <a:miter/>
              <a:tailEnd len="med" type="triangle" w="med"/>
            </a:ln>
          </p:spPr>
        </p:cxnSp>
        <p:pic>
          <p:nvPicPr>
            <p:cNvPr id="115" name="Picture 2" descr=""/>
            <p:cNvPicPr/>
            <p:nvPr/>
          </p:nvPicPr>
          <p:blipFill>
            <a:blip r:embed="rId5"/>
            <a:stretch/>
          </p:blipFill>
          <p:spPr>
            <a:xfrm>
              <a:off x="6402960" y="5219280"/>
              <a:ext cx="1275120" cy="109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ZoneTexte 29" descr=""/>
            <p:cNvPicPr/>
            <p:nvPr/>
          </p:nvPicPr>
          <p:blipFill>
            <a:blip r:embed="rId6"/>
            <a:stretch/>
          </p:blipFill>
          <p:spPr>
            <a:xfrm>
              <a:off x="4427280" y="4254480"/>
              <a:ext cx="4032360" cy="917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7" name="ZoneTexte 31" descr=""/>
          <p:cNvPicPr/>
          <p:nvPr/>
        </p:nvPicPr>
        <p:blipFill>
          <a:blip r:embed="rId7"/>
          <a:stretch/>
        </p:blipFill>
        <p:spPr>
          <a:xfrm>
            <a:off x="689040" y="4181400"/>
            <a:ext cx="4029120" cy="8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907560"/>
            <a:ext cx="7772400" cy="792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Struc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608040" y="3141360"/>
            <a:ext cx="79200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XXXXXXXX  .  XXXXXXXX  .  XXXXXXXX  .  XXXX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0" name="Groupe 2052"/>
          <p:cNvGrpSpPr/>
          <p:nvPr/>
        </p:nvGrpSpPr>
        <p:grpSpPr>
          <a:xfrm>
            <a:off x="971640" y="2214720"/>
            <a:ext cx="7200720" cy="1047240"/>
            <a:chOff x="971640" y="2214720"/>
            <a:chExt cx="7200720" cy="1047240"/>
          </a:xfrm>
        </p:grpSpPr>
        <p:sp>
          <p:nvSpPr>
            <p:cNvPr id="121" name="AutoShape 25"/>
            <p:cNvSpPr/>
            <p:nvPr/>
          </p:nvSpPr>
          <p:spPr>
            <a:xfrm flipV="1" rot="16200000">
              <a:off x="4431960" y="-599040"/>
              <a:ext cx="279720" cy="7200720"/>
            </a:xfrm>
            <a:custGeom>
              <a:avLst/>
              <a:gdLst>
                <a:gd name="textAreaLeft" fmla="*/ 0 w 279720"/>
                <a:gd name="textAreaRight" fmla="*/ 100800 w 279720"/>
                <a:gd name="textAreaTop" fmla="*/ 192600 h 7200720"/>
                <a:gd name="textAreaBottom" fmla="*/ 7008120 h 720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23"/>
                    <a:pt x="10800" y="1846"/>
                  </a:cubicBezTo>
                  <a:lnTo>
                    <a:pt x="10800" y="8954"/>
                  </a:lnTo>
                  <a:cubicBezTo>
                    <a:pt x="10800" y="9877"/>
                    <a:pt x="16200" y="10800"/>
                    <a:pt x="21600" y="10800"/>
                  </a:cubicBezTo>
                  <a:cubicBezTo>
                    <a:pt x="16200" y="10800"/>
                    <a:pt x="10800" y="11723"/>
                    <a:pt x="10800" y="12646"/>
                  </a:cubicBezTo>
                  <a:lnTo>
                    <a:pt x="10800" y="19754"/>
                  </a:lnTo>
                  <a:cubicBezTo>
                    <a:pt x="10800" y="20677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ZoneTexte 2048"/>
            <p:cNvSpPr/>
            <p:nvPr/>
          </p:nvSpPr>
          <p:spPr>
            <a:xfrm>
              <a:off x="3564000" y="2214720"/>
              <a:ext cx="1944000" cy="104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0000"/>
                  </a:solidFill>
                  <a:latin typeface="Calibri"/>
                </a:rPr>
                <a:t>32 bits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e 2054"/>
          <p:cNvGrpSpPr/>
          <p:nvPr/>
        </p:nvGrpSpPr>
        <p:grpSpPr>
          <a:xfrm>
            <a:off x="977400" y="3645000"/>
            <a:ext cx="7194960" cy="1256760"/>
            <a:chOff x="977400" y="3645000"/>
            <a:chExt cx="7194960" cy="1256760"/>
          </a:xfrm>
        </p:grpSpPr>
        <p:sp>
          <p:nvSpPr>
            <p:cNvPr id="124" name="AutoShape 36"/>
            <p:cNvSpPr/>
            <p:nvPr/>
          </p:nvSpPr>
          <p:spPr>
            <a:xfrm rot="5400000">
              <a:off x="1586160" y="3035880"/>
              <a:ext cx="288000" cy="1505880"/>
            </a:xfrm>
            <a:custGeom>
              <a:avLst/>
              <a:gdLst>
                <a:gd name="textAreaLeft" fmla="*/ 0 w 288000"/>
                <a:gd name="textAreaRight" fmla="*/ 104040 w 288000"/>
                <a:gd name="textAreaTop" fmla="*/ 41400 h 1505880"/>
                <a:gd name="textAreaBottom" fmla="*/ 1464480 h 150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53"/>
                    <a:pt x="10800" y="1906"/>
                  </a:cubicBezTo>
                  <a:lnTo>
                    <a:pt x="10800" y="8894"/>
                  </a:lnTo>
                  <a:cubicBezTo>
                    <a:pt x="10800" y="9847"/>
                    <a:pt x="16200" y="10800"/>
                    <a:pt x="21600" y="10800"/>
                  </a:cubicBezTo>
                  <a:cubicBezTo>
                    <a:pt x="16200" y="10800"/>
                    <a:pt x="10800" y="11753"/>
                    <a:pt x="10800" y="12706"/>
                  </a:cubicBezTo>
                  <a:lnTo>
                    <a:pt x="10800" y="19694"/>
                  </a:lnTo>
                  <a:cubicBezTo>
                    <a:pt x="10800" y="20647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Zone de texte 2"/>
            <p:cNvSpPr/>
            <p:nvPr/>
          </p:nvSpPr>
          <p:spPr>
            <a:xfrm>
              <a:off x="977760" y="4005000"/>
              <a:ext cx="1505880" cy="87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 bi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1 octet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AutoShape 36"/>
            <p:cNvSpPr/>
            <p:nvPr/>
          </p:nvSpPr>
          <p:spPr>
            <a:xfrm rot="5400000">
              <a:off x="3419280" y="3057480"/>
              <a:ext cx="288000" cy="1505880"/>
            </a:xfrm>
            <a:custGeom>
              <a:avLst/>
              <a:gdLst>
                <a:gd name="textAreaLeft" fmla="*/ 0 w 288000"/>
                <a:gd name="textAreaRight" fmla="*/ 104040 w 288000"/>
                <a:gd name="textAreaTop" fmla="*/ 41400 h 1505880"/>
                <a:gd name="textAreaBottom" fmla="*/ 1464480 h 150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53"/>
                    <a:pt x="10800" y="1906"/>
                  </a:cubicBezTo>
                  <a:lnTo>
                    <a:pt x="10800" y="8894"/>
                  </a:lnTo>
                  <a:cubicBezTo>
                    <a:pt x="10800" y="9847"/>
                    <a:pt x="16200" y="10800"/>
                    <a:pt x="21600" y="10800"/>
                  </a:cubicBezTo>
                  <a:cubicBezTo>
                    <a:pt x="16200" y="10800"/>
                    <a:pt x="10800" y="11753"/>
                    <a:pt x="10800" y="12706"/>
                  </a:cubicBezTo>
                  <a:lnTo>
                    <a:pt x="10800" y="19694"/>
                  </a:lnTo>
                  <a:cubicBezTo>
                    <a:pt x="10800" y="20647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Zone de texte 2"/>
            <p:cNvSpPr/>
            <p:nvPr/>
          </p:nvSpPr>
          <p:spPr>
            <a:xfrm>
              <a:off x="2810880" y="4026600"/>
              <a:ext cx="1505880" cy="87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 bi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1 octet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AutoShape 36"/>
            <p:cNvSpPr/>
            <p:nvPr/>
          </p:nvSpPr>
          <p:spPr>
            <a:xfrm rot="5400000">
              <a:off x="5363640" y="3057480"/>
              <a:ext cx="288000" cy="1505880"/>
            </a:xfrm>
            <a:custGeom>
              <a:avLst/>
              <a:gdLst>
                <a:gd name="textAreaLeft" fmla="*/ 0 w 288000"/>
                <a:gd name="textAreaRight" fmla="*/ 104040 w 288000"/>
                <a:gd name="textAreaTop" fmla="*/ 41400 h 1505880"/>
                <a:gd name="textAreaBottom" fmla="*/ 1464480 h 150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53"/>
                    <a:pt x="10800" y="1906"/>
                  </a:cubicBezTo>
                  <a:lnTo>
                    <a:pt x="10800" y="8894"/>
                  </a:lnTo>
                  <a:cubicBezTo>
                    <a:pt x="10800" y="9847"/>
                    <a:pt x="16200" y="10800"/>
                    <a:pt x="21600" y="10800"/>
                  </a:cubicBezTo>
                  <a:cubicBezTo>
                    <a:pt x="16200" y="10800"/>
                    <a:pt x="10800" y="11753"/>
                    <a:pt x="10800" y="12706"/>
                  </a:cubicBezTo>
                  <a:lnTo>
                    <a:pt x="10800" y="19694"/>
                  </a:lnTo>
                  <a:cubicBezTo>
                    <a:pt x="10800" y="20647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Zone de texte 2"/>
            <p:cNvSpPr/>
            <p:nvPr/>
          </p:nvSpPr>
          <p:spPr>
            <a:xfrm>
              <a:off x="4755240" y="4026600"/>
              <a:ext cx="1505880" cy="87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 bi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1 octet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36"/>
            <p:cNvSpPr/>
            <p:nvPr/>
          </p:nvSpPr>
          <p:spPr>
            <a:xfrm rot="5400000">
              <a:off x="7274880" y="3057480"/>
              <a:ext cx="288000" cy="1505880"/>
            </a:xfrm>
            <a:custGeom>
              <a:avLst/>
              <a:gdLst>
                <a:gd name="textAreaLeft" fmla="*/ 0 w 288000"/>
                <a:gd name="textAreaRight" fmla="*/ 104040 w 288000"/>
                <a:gd name="textAreaTop" fmla="*/ 41400 h 1505880"/>
                <a:gd name="textAreaBottom" fmla="*/ 1464480 h 1505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53"/>
                    <a:pt x="10800" y="1906"/>
                  </a:cubicBezTo>
                  <a:lnTo>
                    <a:pt x="10800" y="8894"/>
                  </a:lnTo>
                  <a:cubicBezTo>
                    <a:pt x="10800" y="9847"/>
                    <a:pt x="16200" y="10800"/>
                    <a:pt x="21600" y="10800"/>
                  </a:cubicBezTo>
                  <a:cubicBezTo>
                    <a:pt x="16200" y="10800"/>
                    <a:pt x="10800" y="11753"/>
                    <a:pt x="10800" y="12706"/>
                  </a:cubicBezTo>
                  <a:lnTo>
                    <a:pt x="10800" y="19694"/>
                  </a:lnTo>
                  <a:cubicBezTo>
                    <a:pt x="10800" y="20647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Zone de texte 2"/>
            <p:cNvSpPr/>
            <p:nvPr/>
          </p:nvSpPr>
          <p:spPr>
            <a:xfrm>
              <a:off x="6666480" y="4026600"/>
              <a:ext cx="1505880" cy="87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8 bit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  <a:ea typeface="Arial"/>
                </a:rPr>
                <a:t>(1 octet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tre 1"/>
          <p:cNvSpPr/>
          <p:nvPr/>
        </p:nvSpPr>
        <p:spPr>
          <a:xfrm>
            <a:off x="684360" y="836640"/>
            <a:ext cx="7772400" cy="792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2 formes d’écri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653840" y="4437000"/>
            <a:ext cx="5832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i="1" lang="fr-FR" sz="3600" spc="-1" strike="noStrike" u="sng">
                <a:solidFill>
                  <a:srgbClr val="c00000"/>
                </a:solidFill>
                <a:uFillTx/>
                <a:latin typeface="Calibri"/>
              </a:rPr>
              <a:t>Valeur décimale</a:t>
            </a:r>
            <a:br>
              <a:rPr sz="3600"/>
            </a:br>
            <a:r>
              <a:rPr b="0" lang="fr-FR" sz="3600" spc="-1" strike="noStrike">
                <a:solidFill>
                  <a:srgbClr val="c00000"/>
                </a:solidFill>
                <a:latin typeface="Calibri"/>
              </a:rPr>
              <a:t>212 . 134 . 0 . 1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ZoneTexte 11"/>
          <p:cNvSpPr/>
          <p:nvPr/>
        </p:nvSpPr>
        <p:spPr>
          <a:xfrm>
            <a:off x="141120" y="2060640"/>
            <a:ext cx="88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 u="sng">
                <a:solidFill>
                  <a:srgbClr val="0070c0"/>
                </a:solidFill>
                <a:uFillTx/>
                <a:latin typeface="Calibri"/>
              </a:rPr>
              <a:t>Valeur binaire</a:t>
            </a:r>
            <a:br>
              <a:rPr sz="3600"/>
            </a:br>
            <a:r>
              <a:rPr b="0" lang="fr-FR" sz="3600" spc="-1" strike="noStrike">
                <a:solidFill>
                  <a:srgbClr val="0070c0"/>
                </a:solidFill>
                <a:latin typeface="Calibri"/>
              </a:rPr>
              <a:t>11010100 . 10000110 . 00000000 . 000000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itre 1"/>
          <p:cNvSpPr/>
          <p:nvPr/>
        </p:nvSpPr>
        <p:spPr>
          <a:xfrm>
            <a:off x="704880" y="836640"/>
            <a:ext cx="7772400" cy="792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2 identifi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ZoneTexte 11"/>
          <p:cNvSpPr/>
          <p:nvPr/>
        </p:nvSpPr>
        <p:spPr>
          <a:xfrm>
            <a:off x="141120" y="2048040"/>
            <a:ext cx="885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70c0"/>
                </a:solidFill>
                <a:latin typeface="Calibri"/>
              </a:rPr>
              <a:t>L’adresse est découpée en 2 parties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oneTexte 6"/>
          <p:cNvSpPr/>
          <p:nvPr/>
        </p:nvSpPr>
        <p:spPr>
          <a:xfrm>
            <a:off x="271440" y="3716280"/>
            <a:ext cx="4319640" cy="1739880"/>
          </a:xfrm>
          <a:prstGeom prst="rect">
            <a:avLst/>
          </a:prstGeom>
          <a:solidFill>
            <a:srgbClr val="9537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70c0"/>
                </a:solidFill>
                <a:uFillTx/>
                <a:latin typeface="Baskerville Old Face"/>
                <a:ea typeface="Aharoni"/>
              </a:rPr>
              <a:t>Identifiant du résea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ZoneTexte 7"/>
          <p:cNvSpPr/>
          <p:nvPr/>
        </p:nvSpPr>
        <p:spPr>
          <a:xfrm>
            <a:off x="4591080" y="3716280"/>
            <a:ext cx="4321080" cy="173988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 u="sng">
                <a:solidFill>
                  <a:srgbClr val="0070c0"/>
                </a:solidFill>
                <a:uFillTx/>
                <a:latin typeface="Baskerville Old Face"/>
                <a:ea typeface="Aharoni"/>
              </a:rPr>
              <a:t>Identifiant de l’hô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ZoneTexte 5"/>
          <p:cNvSpPr/>
          <p:nvPr/>
        </p:nvSpPr>
        <p:spPr>
          <a:xfrm>
            <a:off x="271440" y="4869000"/>
            <a:ext cx="885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0070c0"/>
                </a:solidFill>
                <a:latin typeface="Calibri"/>
              </a:rPr>
              <a:t>…</a:t>
            </a:r>
            <a:r>
              <a:rPr b="0" i="1" lang="fr-FR" sz="3600" spc="-1" strike="noStrike">
                <a:solidFill>
                  <a:srgbClr val="0070c0"/>
                </a:solidFill>
                <a:latin typeface="Calibri"/>
              </a:rPr>
              <a:t>et ce découpage dépend de l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ff0000"/>
                </a:solidFill>
                <a:latin typeface="Calibri"/>
              </a:rPr>
              <a:t>classe du réseau</a:t>
            </a:r>
            <a:r>
              <a:rPr b="0" i="1" lang="fr-FR" sz="3600" spc="-1" strike="noStrike">
                <a:solidFill>
                  <a:srgbClr val="0070c0"/>
                </a:solidFill>
                <a:latin typeface="Calibri"/>
              </a:rPr>
              <a:t>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792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Adresses de classe 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58360" y="2377800"/>
            <a:ext cx="22208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0XXXXXXX</a:t>
            </a: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e 11"/>
          <p:cNvGrpSpPr/>
          <p:nvPr/>
        </p:nvGrpSpPr>
        <p:grpSpPr>
          <a:xfrm>
            <a:off x="406440" y="1730520"/>
            <a:ext cx="2641680" cy="706320"/>
            <a:chOff x="406440" y="1730520"/>
            <a:chExt cx="2641680" cy="706320"/>
          </a:xfrm>
        </p:grpSpPr>
        <p:sp>
          <p:nvSpPr>
            <p:cNvPr id="143" name="AutoShape 25"/>
            <p:cNvSpPr/>
            <p:nvPr/>
          </p:nvSpPr>
          <p:spPr>
            <a:xfrm flipV="1" rot="16200000">
              <a:off x="1657440" y="1576800"/>
              <a:ext cx="139680" cy="1580400"/>
            </a:xfrm>
            <a:custGeom>
              <a:avLst/>
              <a:gdLst>
                <a:gd name="textAreaLeft" fmla="*/ 0 w 139680"/>
                <a:gd name="textAreaRight" fmla="*/ 50400 w 139680"/>
                <a:gd name="textAreaTop" fmla="*/ 96120 h 1580400"/>
                <a:gd name="textAreaBottom" fmla="*/ 1484280 h 158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103"/>
                    <a:pt x="10800" y="4206"/>
                  </a:cubicBezTo>
                  <a:lnTo>
                    <a:pt x="10800" y="6594"/>
                  </a:lnTo>
                  <a:cubicBezTo>
                    <a:pt x="10800" y="8697"/>
                    <a:pt x="16200" y="10800"/>
                    <a:pt x="21600" y="10800"/>
                  </a:cubicBezTo>
                  <a:cubicBezTo>
                    <a:pt x="16200" y="10800"/>
                    <a:pt x="10800" y="12903"/>
                    <a:pt x="10800" y="15006"/>
                  </a:cubicBezTo>
                  <a:lnTo>
                    <a:pt x="10800" y="17394"/>
                  </a:lnTo>
                  <a:cubicBezTo>
                    <a:pt x="10800" y="19497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ZoneTexte 2048"/>
            <p:cNvSpPr/>
            <p:nvPr/>
          </p:nvSpPr>
          <p:spPr>
            <a:xfrm>
              <a:off x="406440" y="1730520"/>
              <a:ext cx="26416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0000"/>
                  </a:solidFill>
                  <a:latin typeface="Calibri"/>
                </a:rPr>
                <a:t>Partie résea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45" name=""/>
          <p:cNvGraphicFramePr/>
          <p:nvPr/>
        </p:nvGraphicFramePr>
        <p:xfrm>
          <a:off x="752400" y="3429000"/>
          <a:ext cx="7635960" cy="3108240"/>
        </p:xfrm>
        <a:graphic>
          <a:graphicData uri="http://schemas.openxmlformats.org/drawingml/2006/table">
            <a:tbl>
              <a:tblPr/>
              <a:tblGrid>
                <a:gridCol w="5259600"/>
                <a:gridCol w="23763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bits pour les réseau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réseaux possi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mière  adresse de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nière adresse de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bits pour les machi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stations possi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146" name="Groupe 10"/>
          <p:cNvGrpSpPr/>
          <p:nvPr/>
        </p:nvGrpSpPr>
        <p:grpSpPr>
          <a:xfrm>
            <a:off x="2365200" y="1725480"/>
            <a:ext cx="5838840" cy="1319400"/>
            <a:chOff x="2365200" y="1725480"/>
            <a:chExt cx="5838840" cy="1319400"/>
          </a:xfrm>
        </p:grpSpPr>
        <p:sp>
          <p:nvSpPr>
            <p:cNvPr id="147" name="AutoShape 25"/>
            <p:cNvSpPr/>
            <p:nvPr/>
          </p:nvSpPr>
          <p:spPr>
            <a:xfrm flipV="1" rot="16200000">
              <a:off x="5419440" y="-339480"/>
              <a:ext cx="139680" cy="5400360"/>
            </a:xfrm>
            <a:custGeom>
              <a:avLst/>
              <a:gdLst>
                <a:gd name="textAreaLeft" fmla="*/ 0 w 139680"/>
                <a:gd name="textAreaRight" fmla="*/ 50400 w 139680"/>
                <a:gd name="textAreaTop" fmla="*/ 96120 h 5400360"/>
                <a:gd name="textAreaBottom" fmla="*/ 5304240 h 540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616"/>
                    <a:pt x="10800" y="1231"/>
                  </a:cubicBezTo>
                  <a:lnTo>
                    <a:pt x="10800" y="9569"/>
                  </a:lnTo>
                  <a:cubicBezTo>
                    <a:pt x="10800" y="10185"/>
                    <a:pt x="16200" y="10800"/>
                    <a:pt x="21600" y="10800"/>
                  </a:cubicBezTo>
                  <a:cubicBezTo>
                    <a:pt x="16200" y="10800"/>
                    <a:pt x="10800" y="11416"/>
                    <a:pt x="10800" y="12031"/>
                  </a:cubicBezTo>
                  <a:lnTo>
                    <a:pt x="10800" y="20369"/>
                  </a:lnTo>
                  <a:cubicBezTo>
                    <a:pt x="10800" y="20985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ZoneTexte 16"/>
            <p:cNvSpPr/>
            <p:nvPr/>
          </p:nvSpPr>
          <p:spPr>
            <a:xfrm>
              <a:off x="2789640" y="1725480"/>
              <a:ext cx="54144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b050"/>
                  </a:solidFill>
                  <a:latin typeface="Calibri"/>
                </a:rPr>
                <a:t>Partie hô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Sous-titre 2"/>
            <p:cNvSpPr/>
            <p:nvPr/>
          </p:nvSpPr>
          <p:spPr>
            <a:xfrm>
              <a:off x="2365200" y="2396880"/>
              <a:ext cx="5825160" cy="64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898989"/>
                  </a:solidFill>
                  <a:latin typeface="Calibri"/>
                </a:rPr>
                <a:t> </a:t>
              </a:r>
              <a:r>
                <a:rPr b="0" lang="fr-FR" sz="2800" spc="-1" strike="noStrike">
                  <a:solidFill>
                    <a:srgbClr val="898989"/>
                  </a:solidFill>
                  <a:latin typeface="Calibri"/>
                </a:rPr>
                <a:t>.  </a:t>
              </a:r>
              <a:r>
                <a:rPr b="0" lang="fr-FR" sz="2800" spc="-1" strike="noStrike">
                  <a:solidFill>
                    <a:srgbClr val="00b050"/>
                  </a:solidFill>
                  <a:latin typeface="Calibri"/>
                </a:rPr>
                <a:t>XXXXXXXX</a:t>
              </a:r>
              <a:r>
                <a:rPr b="0" lang="fr-FR" sz="2800" spc="-1" strike="noStrike">
                  <a:solidFill>
                    <a:srgbClr val="898989"/>
                  </a:solidFill>
                  <a:latin typeface="Calibri"/>
                </a:rPr>
                <a:t>  .  </a:t>
              </a:r>
              <a:r>
                <a:rPr b="0" lang="fr-FR" sz="2800" spc="-1" strike="noStrike">
                  <a:solidFill>
                    <a:srgbClr val="00b050"/>
                  </a:solidFill>
                  <a:latin typeface="Calibri"/>
                </a:rPr>
                <a:t>XXXXXXXX</a:t>
              </a:r>
              <a:r>
                <a:rPr b="0" lang="fr-FR" sz="2800" spc="-1" strike="noStrike">
                  <a:solidFill>
                    <a:srgbClr val="898989"/>
                  </a:solidFill>
                  <a:latin typeface="Calibri"/>
                </a:rPr>
                <a:t>  .  </a:t>
              </a:r>
              <a:r>
                <a:rPr b="0" lang="fr-FR" sz="2800" spc="-1" strike="noStrike">
                  <a:solidFill>
                    <a:srgbClr val="00b050"/>
                  </a:solidFill>
                  <a:latin typeface="Calibri"/>
                </a:rPr>
                <a:t>XXXXXXX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" name="ZoneTexte 13"/>
          <p:cNvSpPr/>
          <p:nvPr/>
        </p:nvSpPr>
        <p:spPr>
          <a:xfrm>
            <a:off x="6012000" y="34574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ZoneTexte 29"/>
          <p:cNvSpPr/>
          <p:nvPr/>
        </p:nvSpPr>
        <p:spPr>
          <a:xfrm>
            <a:off x="6012000" y="395748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2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oneTexte 30"/>
          <p:cNvSpPr/>
          <p:nvPr/>
        </p:nvSpPr>
        <p:spPr>
          <a:xfrm>
            <a:off x="6012000" y="448164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.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ZoneTexte 31"/>
          <p:cNvSpPr/>
          <p:nvPr/>
        </p:nvSpPr>
        <p:spPr>
          <a:xfrm>
            <a:off x="6012000" y="5040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26.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ZoneTexte 32"/>
          <p:cNvSpPr/>
          <p:nvPr/>
        </p:nvSpPr>
        <p:spPr>
          <a:xfrm>
            <a:off x="6012000" y="54975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oneTexte 33"/>
          <p:cNvSpPr/>
          <p:nvPr/>
        </p:nvSpPr>
        <p:spPr>
          <a:xfrm>
            <a:off x="6012000" y="60213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6 777 2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2100"/>
                            </p:stCondLst>
                            <p:childTnLst>
                              <p:par>
                                <p:cTn id="14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792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Adresses de classe 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819000" y="2430360"/>
            <a:ext cx="3654720" cy="6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10XXXXXX</a:t>
            </a: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 . 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XXXXXXX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8" name="Groupe 8"/>
          <p:cNvGrpSpPr/>
          <p:nvPr/>
        </p:nvGrpSpPr>
        <p:grpSpPr>
          <a:xfrm>
            <a:off x="938160" y="1698480"/>
            <a:ext cx="3417840" cy="739800"/>
            <a:chOff x="938160" y="1698480"/>
            <a:chExt cx="3417840" cy="739800"/>
          </a:xfrm>
        </p:grpSpPr>
        <p:sp>
          <p:nvSpPr>
            <p:cNvPr id="159" name="AutoShape 25"/>
            <p:cNvSpPr/>
            <p:nvPr/>
          </p:nvSpPr>
          <p:spPr>
            <a:xfrm flipV="1" rot="16200000">
              <a:off x="2577240" y="659520"/>
              <a:ext cx="139680" cy="3417840"/>
            </a:xfrm>
            <a:custGeom>
              <a:avLst/>
              <a:gdLst>
                <a:gd name="textAreaLeft" fmla="*/ 0 w 139680"/>
                <a:gd name="textAreaRight" fmla="*/ 50400 w 139680"/>
                <a:gd name="textAreaTop" fmla="*/ 96120 h 3417840"/>
                <a:gd name="textAreaBottom" fmla="*/ 3321720 h 3417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72"/>
                    <a:pt x="10800" y="1944"/>
                  </a:cubicBezTo>
                  <a:lnTo>
                    <a:pt x="10800" y="8856"/>
                  </a:lnTo>
                  <a:cubicBezTo>
                    <a:pt x="10800" y="9828"/>
                    <a:pt x="16200" y="10800"/>
                    <a:pt x="21600" y="10800"/>
                  </a:cubicBezTo>
                  <a:cubicBezTo>
                    <a:pt x="16200" y="10800"/>
                    <a:pt x="10800" y="11772"/>
                    <a:pt x="10800" y="12744"/>
                  </a:cubicBezTo>
                  <a:lnTo>
                    <a:pt x="10800" y="19656"/>
                  </a:lnTo>
                  <a:cubicBezTo>
                    <a:pt x="10800" y="20628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ZoneTexte 2048"/>
            <p:cNvSpPr/>
            <p:nvPr/>
          </p:nvSpPr>
          <p:spPr>
            <a:xfrm>
              <a:off x="1326240" y="1698480"/>
              <a:ext cx="264132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0000"/>
                  </a:solidFill>
                  <a:latin typeface="Calibri"/>
                </a:rPr>
                <a:t>Partie résea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61" name=""/>
          <p:cNvGraphicFramePr/>
          <p:nvPr/>
        </p:nvGraphicFramePr>
        <p:xfrm>
          <a:off x="752400" y="3429000"/>
          <a:ext cx="7635960" cy="3108240"/>
        </p:xfrm>
        <a:graphic>
          <a:graphicData uri="http://schemas.openxmlformats.org/drawingml/2006/table">
            <a:tbl>
              <a:tblPr/>
              <a:tblGrid>
                <a:gridCol w="5259600"/>
                <a:gridCol w="23763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bits pour les réseau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réseaux possi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mière  adresse de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nière adresse de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bits pour les machi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stations possi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162" name="Groupe 5"/>
          <p:cNvGrpSpPr/>
          <p:nvPr/>
        </p:nvGrpSpPr>
        <p:grpSpPr>
          <a:xfrm>
            <a:off x="4211640" y="1725480"/>
            <a:ext cx="3979800" cy="1359000"/>
            <a:chOff x="4211640" y="1725480"/>
            <a:chExt cx="3979800" cy="1359000"/>
          </a:xfrm>
        </p:grpSpPr>
        <p:sp>
          <p:nvSpPr>
            <p:cNvPr id="163" name="AutoShape 25"/>
            <p:cNvSpPr/>
            <p:nvPr/>
          </p:nvSpPr>
          <p:spPr>
            <a:xfrm flipV="1" rot="16200000">
              <a:off x="6343560" y="589320"/>
              <a:ext cx="146880" cy="3547800"/>
            </a:xfrm>
            <a:custGeom>
              <a:avLst/>
              <a:gdLst>
                <a:gd name="textAreaLeft" fmla="*/ 0 w 146880"/>
                <a:gd name="textAreaRight" fmla="*/ 52920 w 146880"/>
                <a:gd name="textAreaTop" fmla="*/ 101160 h 3547800"/>
                <a:gd name="textAreaBottom" fmla="*/ 3446640 h 3547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85"/>
                    <a:pt x="10800" y="1970"/>
                  </a:cubicBezTo>
                  <a:lnTo>
                    <a:pt x="10800" y="8830"/>
                  </a:lnTo>
                  <a:cubicBezTo>
                    <a:pt x="10800" y="9815"/>
                    <a:pt x="16200" y="10800"/>
                    <a:pt x="21600" y="10800"/>
                  </a:cubicBezTo>
                  <a:cubicBezTo>
                    <a:pt x="16200" y="10800"/>
                    <a:pt x="10800" y="11785"/>
                    <a:pt x="10800" y="12770"/>
                  </a:cubicBezTo>
                  <a:lnTo>
                    <a:pt x="10800" y="19630"/>
                  </a:lnTo>
                  <a:cubicBezTo>
                    <a:pt x="10800" y="20615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ZoneTexte 16"/>
            <p:cNvSpPr/>
            <p:nvPr/>
          </p:nvSpPr>
          <p:spPr>
            <a:xfrm>
              <a:off x="4643640" y="1725480"/>
              <a:ext cx="354780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b050"/>
                  </a:solidFill>
                  <a:latin typeface="Calibri"/>
                </a:rPr>
                <a:t>Partie hô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Sous-titre 2"/>
            <p:cNvSpPr/>
            <p:nvPr/>
          </p:nvSpPr>
          <p:spPr>
            <a:xfrm>
              <a:off x="4211640" y="2436840"/>
              <a:ext cx="39798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898989"/>
                  </a:solidFill>
                  <a:latin typeface="Calibri"/>
                </a:rPr>
                <a:t> </a:t>
              </a:r>
              <a:r>
                <a:rPr b="0" lang="fr-FR" sz="2800" spc="-1" strike="noStrike">
                  <a:solidFill>
                    <a:srgbClr val="898989"/>
                  </a:solidFill>
                  <a:latin typeface="Calibri"/>
                </a:rPr>
                <a:t>.  </a:t>
              </a:r>
              <a:r>
                <a:rPr b="0" lang="fr-FR" sz="2800" spc="-1" strike="noStrike">
                  <a:solidFill>
                    <a:srgbClr val="00b050"/>
                  </a:solidFill>
                  <a:latin typeface="Calibri"/>
                </a:rPr>
                <a:t>XXXXXXXX</a:t>
              </a:r>
              <a:r>
                <a:rPr b="0" lang="fr-FR" sz="2800" spc="-1" strike="noStrike">
                  <a:solidFill>
                    <a:srgbClr val="898989"/>
                  </a:solidFill>
                  <a:latin typeface="Calibri"/>
                </a:rPr>
                <a:t>  .  </a:t>
              </a:r>
              <a:r>
                <a:rPr b="0" lang="fr-FR" sz="2800" spc="-1" strike="noStrike">
                  <a:solidFill>
                    <a:srgbClr val="00b050"/>
                  </a:solidFill>
                  <a:latin typeface="Calibri"/>
                </a:rPr>
                <a:t>XXXXXXX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ZoneTexte 13"/>
          <p:cNvSpPr/>
          <p:nvPr/>
        </p:nvSpPr>
        <p:spPr>
          <a:xfrm>
            <a:off x="5987880" y="34052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oneTexte 29"/>
          <p:cNvSpPr/>
          <p:nvPr/>
        </p:nvSpPr>
        <p:spPr>
          <a:xfrm>
            <a:off x="5991120" y="39560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6 38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ZoneTexte 30"/>
          <p:cNvSpPr/>
          <p:nvPr/>
        </p:nvSpPr>
        <p:spPr>
          <a:xfrm>
            <a:off x="5987880" y="44290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28.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ZoneTexte 31"/>
          <p:cNvSpPr/>
          <p:nvPr/>
        </p:nvSpPr>
        <p:spPr>
          <a:xfrm>
            <a:off x="5987880" y="49878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91.255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oneTexte 32"/>
          <p:cNvSpPr/>
          <p:nvPr/>
        </p:nvSpPr>
        <p:spPr>
          <a:xfrm>
            <a:off x="5987880" y="54784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ZoneTexte 33"/>
          <p:cNvSpPr/>
          <p:nvPr/>
        </p:nvSpPr>
        <p:spPr>
          <a:xfrm>
            <a:off x="5987880" y="5950080"/>
            <a:ext cx="23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c000"/>
                </a:solidFill>
                <a:latin typeface="Calibri"/>
              </a:rPr>
              <a:t>65 53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792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Adresses de classe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37800" y="2360160"/>
            <a:ext cx="539604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110XXXXX</a:t>
            </a: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 .  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XXXXXXXX</a:t>
            </a: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  .  </a:t>
            </a:r>
            <a:r>
              <a:rPr b="0" lang="fr-FR" sz="2800" spc="-1" strike="noStrike">
                <a:solidFill>
                  <a:srgbClr val="ff0000"/>
                </a:solidFill>
                <a:latin typeface="Calibri"/>
              </a:rPr>
              <a:t>XXXXXXXX</a:t>
            </a:r>
            <a:r>
              <a:rPr b="0" lang="fr-FR" sz="2800" spc="-1" strike="noStrike">
                <a:solidFill>
                  <a:srgbClr val="898989"/>
                </a:solidFill>
                <a:latin typeface="Calibri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4" name="Groupe 8"/>
          <p:cNvGrpSpPr/>
          <p:nvPr/>
        </p:nvGrpSpPr>
        <p:grpSpPr>
          <a:xfrm>
            <a:off x="938160" y="1684440"/>
            <a:ext cx="5362560" cy="712800"/>
            <a:chOff x="938160" y="1684440"/>
            <a:chExt cx="5362560" cy="712800"/>
          </a:xfrm>
        </p:grpSpPr>
        <p:sp>
          <p:nvSpPr>
            <p:cNvPr id="175" name="AutoShape 25"/>
            <p:cNvSpPr/>
            <p:nvPr/>
          </p:nvSpPr>
          <p:spPr>
            <a:xfrm flipV="1" rot="16200000">
              <a:off x="3549600" y="-353520"/>
              <a:ext cx="139680" cy="5362560"/>
            </a:xfrm>
            <a:custGeom>
              <a:avLst/>
              <a:gdLst>
                <a:gd name="textAreaLeft" fmla="*/ 0 w 139680"/>
                <a:gd name="textAreaRight" fmla="*/ 50400 w 139680"/>
                <a:gd name="textAreaTop" fmla="*/ 96120 h 5362560"/>
                <a:gd name="textAreaBottom" fmla="*/ 5266440 h 5362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620"/>
                    <a:pt x="10800" y="1239"/>
                  </a:cubicBezTo>
                  <a:lnTo>
                    <a:pt x="10800" y="9561"/>
                  </a:lnTo>
                  <a:cubicBezTo>
                    <a:pt x="10800" y="10181"/>
                    <a:pt x="16200" y="10800"/>
                    <a:pt x="21600" y="10800"/>
                  </a:cubicBezTo>
                  <a:cubicBezTo>
                    <a:pt x="16200" y="10800"/>
                    <a:pt x="10800" y="11420"/>
                    <a:pt x="10800" y="12039"/>
                  </a:cubicBezTo>
                  <a:lnTo>
                    <a:pt x="10800" y="20361"/>
                  </a:lnTo>
                  <a:cubicBezTo>
                    <a:pt x="10800" y="20981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ZoneTexte 2048"/>
            <p:cNvSpPr/>
            <p:nvPr/>
          </p:nvSpPr>
          <p:spPr>
            <a:xfrm>
              <a:off x="938160" y="1684440"/>
              <a:ext cx="536256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0000"/>
                  </a:solidFill>
                  <a:latin typeface="Calibri"/>
                </a:rPr>
                <a:t>Partie réseau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77" name=""/>
          <p:cNvGraphicFramePr/>
          <p:nvPr/>
        </p:nvGraphicFramePr>
        <p:xfrm>
          <a:off x="752400" y="3429000"/>
          <a:ext cx="7635960" cy="3108240"/>
        </p:xfrm>
        <a:graphic>
          <a:graphicData uri="http://schemas.openxmlformats.org/drawingml/2006/table">
            <a:tbl>
              <a:tblPr/>
              <a:tblGrid>
                <a:gridCol w="5259600"/>
                <a:gridCol w="237636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bits pour les réseau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réseaux possi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mière  adresse de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ernière adresse de résea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bits pour les machin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mbre de stations possibl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grpSp>
        <p:nvGrpSpPr>
          <p:cNvPr id="178" name="Groupe 4"/>
          <p:cNvGrpSpPr/>
          <p:nvPr/>
        </p:nvGrpSpPr>
        <p:grpSpPr>
          <a:xfrm>
            <a:off x="6227640" y="1725480"/>
            <a:ext cx="2130480" cy="1319400"/>
            <a:chOff x="6227640" y="1725480"/>
            <a:chExt cx="2130480" cy="1319400"/>
          </a:xfrm>
        </p:grpSpPr>
        <p:sp>
          <p:nvSpPr>
            <p:cNvPr id="179" name="AutoShape 25"/>
            <p:cNvSpPr/>
            <p:nvPr/>
          </p:nvSpPr>
          <p:spPr>
            <a:xfrm flipV="1" rot="16200000">
              <a:off x="7315200" y="1524960"/>
              <a:ext cx="146880" cy="1603080"/>
            </a:xfrm>
            <a:custGeom>
              <a:avLst/>
              <a:gdLst>
                <a:gd name="textAreaLeft" fmla="*/ 0 w 146880"/>
                <a:gd name="textAreaRight" fmla="*/ 52920 w 146880"/>
                <a:gd name="textAreaTop" fmla="*/ 101160 h 1603080"/>
                <a:gd name="textAreaBottom" fmla="*/ 1501920 h 160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2180"/>
                    <a:pt x="10800" y="4360"/>
                  </a:cubicBezTo>
                  <a:lnTo>
                    <a:pt x="10800" y="6440"/>
                  </a:lnTo>
                  <a:cubicBezTo>
                    <a:pt x="10800" y="8620"/>
                    <a:pt x="16200" y="10800"/>
                    <a:pt x="21600" y="10800"/>
                  </a:cubicBezTo>
                  <a:cubicBezTo>
                    <a:pt x="16200" y="10800"/>
                    <a:pt x="10800" y="12980"/>
                    <a:pt x="10800" y="15160"/>
                  </a:cubicBezTo>
                  <a:lnTo>
                    <a:pt x="10800" y="17240"/>
                  </a:lnTo>
                  <a:cubicBezTo>
                    <a:pt x="10800" y="19420"/>
                    <a:pt x="5400" y="21600"/>
                    <a:pt x="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ZoneTexte 16"/>
            <p:cNvSpPr/>
            <p:nvPr/>
          </p:nvSpPr>
          <p:spPr>
            <a:xfrm>
              <a:off x="6443640" y="1725480"/>
              <a:ext cx="1914480" cy="55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00b050"/>
                  </a:solidFill>
                  <a:latin typeface="Calibri"/>
                </a:rPr>
                <a:t>Partie hôt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Sous-titre 2"/>
            <p:cNvSpPr/>
            <p:nvPr/>
          </p:nvSpPr>
          <p:spPr>
            <a:xfrm>
              <a:off x="6227640" y="2397240"/>
              <a:ext cx="196380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600" spc="-1" strike="noStrike">
                  <a:solidFill>
                    <a:srgbClr val="898989"/>
                  </a:solidFill>
                  <a:latin typeface="Calibri"/>
                </a:rPr>
                <a:t> </a:t>
              </a:r>
              <a:r>
                <a:rPr b="0" lang="fr-FR" sz="2600" spc="-1" strike="noStrike">
                  <a:solidFill>
                    <a:srgbClr val="898989"/>
                  </a:solidFill>
                  <a:latin typeface="Calibri"/>
                </a:rPr>
                <a:t>.  </a:t>
              </a:r>
              <a:r>
                <a:rPr b="0" lang="fr-FR" sz="2600" spc="-1" strike="noStrike">
                  <a:solidFill>
                    <a:srgbClr val="00b050"/>
                  </a:solidFill>
                  <a:latin typeface="Calibri"/>
                </a:rPr>
                <a:t>XXXXXXXX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ZoneTexte 13"/>
          <p:cNvSpPr/>
          <p:nvPr/>
        </p:nvSpPr>
        <p:spPr>
          <a:xfrm>
            <a:off x="5987880" y="340524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ZoneTexte 29"/>
          <p:cNvSpPr/>
          <p:nvPr/>
        </p:nvSpPr>
        <p:spPr>
          <a:xfrm>
            <a:off x="5991120" y="38718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2 097 1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ZoneTexte 30"/>
          <p:cNvSpPr/>
          <p:nvPr/>
        </p:nvSpPr>
        <p:spPr>
          <a:xfrm>
            <a:off x="5987880" y="442908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192.0.0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oneTexte 31"/>
          <p:cNvSpPr/>
          <p:nvPr/>
        </p:nvSpPr>
        <p:spPr>
          <a:xfrm>
            <a:off x="5987880" y="4987800"/>
            <a:ext cx="23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223.255.255.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ZoneTexte 32"/>
          <p:cNvSpPr/>
          <p:nvPr/>
        </p:nvSpPr>
        <p:spPr>
          <a:xfrm>
            <a:off x="5997600" y="54579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ZoneTexte 33"/>
          <p:cNvSpPr/>
          <p:nvPr/>
        </p:nvSpPr>
        <p:spPr>
          <a:xfrm>
            <a:off x="5981760" y="5969160"/>
            <a:ext cx="23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c000"/>
                </a:solidFill>
                <a:latin typeface="Calibri"/>
              </a:rPr>
              <a:t>2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nodeType="clickEffect" fill="hold">
                      <p:stCondLst>
                        <p:cond delay="indefinite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4360" y="836640"/>
            <a:ext cx="7772400" cy="79200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 u="sng">
                <a:solidFill>
                  <a:srgbClr val="17375e"/>
                </a:solidFill>
                <a:uFillTx/>
                <a:latin typeface="Arial Rounded MT Bold"/>
                <a:ea typeface="David"/>
              </a:rPr>
              <a:t>Intérêt du masque de résea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ZoneTexte 5"/>
          <p:cNvSpPr/>
          <p:nvPr/>
        </p:nvSpPr>
        <p:spPr>
          <a:xfrm>
            <a:off x="725400" y="1989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peut détermin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ZoneTexte 20"/>
          <p:cNvSpPr/>
          <p:nvPr/>
        </p:nvSpPr>
        <p:spPr>
          <a:xfrm>
            <a:off x="755640" y="270828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alibri"/>
              </a:rPr>
              <a:t>L’adresse réseau 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oneTexte 23"/>
          <p:cNvSpPr/>
          <p:nvPr/>
        </p:nvSpPr>
        <p:spPr>
          <a:xfrm>
            <a:off x="750960" y="3336840"/>
            <a:ext cx="768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alibri"/>
              </a:rPr>
              <a:t>Adresse de diffusion réseau qui désigne tous les hôtes de ce réseau 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ZoneTexte 7"/>
          <p:cNvSpPr/>
          <p:nvPr/>
        </p:nvSpPr>
        <p:spPr>
          <a:xfrm>
            <a:off x="755640" y="4413240"/>
            <a:ext cx="76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alibri"/>
              </a:rPr>
              <a:t>Adresses du premier et dernier hôte 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ZoneTexte 8"/>
          <p:cNvSpPr/>
          <p:nvPr/>
        </p:nvSpPr>
        <p:spPr>
          <a:xfrm>
            <a:off x="725400" y="5092560"/>
            <a:ext cx="768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c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c00000"/>
                </a:solidFill>
                <a:latin typeface="Calibri"/>
              </a:rPr>
              <a:t>Nombre d’hôtes du résea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1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7T13:14:26Z</dcterms:created>
  <dc:creator>phedelin</dc:creator>
  <dc:description/>
  <dc:language>en-US</dc:language>
  <cp:lastModifiedBy>phedelin</cp:lastModifiedBy>
  <dcterms:modified xsi:type="dcterms:W3CDTF">2011-12-06T09:16:58Z</dcterms:modified>
  <cp:revision>110</cp:revision>
  <dc:subject/>
  <dc:title>Présentation PowerPoint</dc:title>
</cp:coreProperties>
</file>