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43DF-0151-48F9-BFB0-DA64B2BB8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10D8-09D5-445E-BD11-FEC7AD997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B6DD7-CFB8-4FEB-8607-59035EC023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A3191-8BE0-461C-9B62-6DFB2C433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7C6AA-7817-464C-8BD5-582A62236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36D9B-E0FE-455E-A3AB-6F8E52061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24A94-74BA-4456-83C4-0CCC96230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D7A8B-271A-4D92-A331-A58F33B81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EBA9A-DF23-4D4F-8373-DD93B157A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BE5ED-F533-419F-B5AF-E8F7BE483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D836B-1687-46FF-87E3-ECCE4CCA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7212-F6EB-4F78-B8AA-A26C88ABB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2AEDF-038C-46BE-B514-1E3FA911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59B77-3C21-44DA-9C69-108B6EFEF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C2DB0-2423-4D7C-84EA-C13F99430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E984A-2171-496C-961F-5B053D393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8BFC1-70BF-4858-A5D3-20EC127E8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07C017-C8DC-44FF-9414-BC0134A0D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ED30CAC-C23A-4608-9E5E-C13C52A3B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CB73E0-8AE0-484D-BE9C-A855797AE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A2BA60-5C54-4CAC-9DAE-2EED2FF92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EB3F46-6746-4BA2-8E8D-A3B2A70CF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E0B9-D6FC-4BEB-95F1-1462671D9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7FBD552-13EF-4ED5-B55E-C11D4824E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D6DD4D-8274-4E23-AF06-54F5C112C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D8B3A51-43B2-46CE-8ED5-F0DAFA7CE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3329D0-0300-4642-BA67-09DB09452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BD606AB-0D15-447E-BF5C-C3F5E9E49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B0DED3-EEFA-4445-B2E3-CF985B61F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FB4C0F-D5DC-429B-AA40-BE8026D0C3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6184C8-590D-424D-B968-C7E2A9CD8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85C4FD-AF89-49F5-BB3E-D62741CD4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134BBA-6209-4EAD-8AE3-0B6898E7A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DA8E-0816-475C-BC41-FD927F3DB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CF7CCC-0C1B-45C7-BF3E-53712AC8E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D1CFBD-D81D-441A-84C8-CB85481B5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8C4878-7D39-4D38-92B9-4FCDCA1D8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51CC612-C225-4C20-8B20-5A938D8F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9208E9-4400-4B75-A22C-33ED3C94F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9A0940-DE96-4CE5-A6B4-04982B413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ADC414-5469-4B5C-90A3-7D79B4D2D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42AC46-83BF-41C6-8515-14954C4AD3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A3BDD5-D46F-44DD-A8E2-A8B6337EA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4FBF120-D976-4A0A-A21D-C0012FBD1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9F72-95CF-42D3-AF92-7C70C9DD1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2D2FF7-B559-4941-B426-70FCA3AB0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3B8B3C9-BDAC-4E6D-AEAA-FDBBB46EB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C91D17B-A777-4BBF-89B0-FDB387974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E1B150-B8F3-497E-8832-62F9A72A3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C77013-229F-4F23-ABFB-27554B9F4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8BD164-8C65-485F-9BAB-4D09C5B5A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FAAFD3-F9AB-4301-9C61-E022F81E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89B2EFE-19D4-4CF9-9AB5-21920D923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AE6386-99F1-4884-826D-C695B279C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67A158-E9E3-4871-961B-EAB57A01E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E3FD0-D149-49A7-B6D8-234CAEC02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38D486D-A580-469C-8472-E9D22517F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AFB8F1-D2F6-4A58-ACB2-80D682FB1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03FAB0-4D75-4080-ADE4-3E5676548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7F534-DDEA-4EC5-8DB9-06C173D82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F69BE6-F17D-40C6-AF73-7DCF19946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395125-D174-493C-B599-3069310F3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ECFEA-62C6-4B0D-9378-3BBF0DF99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86025-DDD4-4DAC-994A-E4D4531CE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CD338D-13F9-4118-A1A2-4C43346F0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5184B5-886A-454B-A4ED-D1019D71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633A-C2A4-412F-8CFB-523BDE3F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2C51F8-CB76-48FD-9CDA-BC9DF335E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4C50F-72E1-4EE6-B4D3-B224776E4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F75F1-EBDE-4FD0-8E28-583795494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BDEA99-DE92-4DB6-B4C1-18913742A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566E04E-19C3-47ED-86F7-D192DAD5B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0AA0C5-55BA-4626-A8A8-CB2E0AFE1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4D9191-8D02-41C7-9981-00B9B1110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5BB0402-85AD-4AB6-8227-CD99AE1CD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947EA56-7132-4BE7-87BE-AC2711822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77E8645-1459-4001-89FB-443490A3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FCCA-9A09-4F5E-89FE-D59DB3B93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21DFA1-A3C7-453E-97AA-B872D9095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173F44-A770-42F5-804C-625225419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3FCE9D-A955-4D44-A1BD-3E84DE416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E8B2B8-F77D-4FCB-92CC-04D672B33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D40696-EBBD-474C-AF08-3CD5846E0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17CB07-1602-4C8C-8F54-74CE6937A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F9026-E167-4181-8B51-F4311759D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25820A-E220-41C4-8365-5A15C0645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81C44D-0612-4CF2-A385-6607067AC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B3579A-B132-461A-ABB6-0A79AE185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1CC7-C2D8-4F91-96B4-D77B9668F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EBE381-8E5E-4B98-8E20-F90EA6D69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F47902-E760-481B-8755-77F3AF11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9D5E6D-E58A-4494-B756-4349CAAC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425835-8BE2-4416-9223-49ABBD9C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D15840-DC6D-4B09-A9F6-EBAB51FC5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8FC7BB-A6DF-4E51-8A9D-96DF68A6F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2FA91A-0B7A-406F-B7E9-949AFC7B8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23232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FA9E2-7C3C-4CC9-A300-08F2DA9548A7}" type="datetime">
              <a:rPr b="0" lang="fr-FR" sz="1400" spc="-1" strike="noStrike">
                <a:solidFill>
                  <a:srgbClr val="323232"/>
                </a:solidFill>
                <a:latin typeface="Tw Cen MT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32E34-D382-41EC-B61E-28E6188FA567}" type="slidenum">
              <a:rPr b="1" lang="fr-FR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ded1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3ded1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F4022-593C-4E54-8B55-5F99A373E5D6}" type="datetime">
              <a:rPr b="0" lang="fr-FR" sz="2000" spc="-1" strike="noStrike">
                <a:solidFill>
                  <a:srgbClr val="ffffff"/>
                </a:solidFill>
                <a:latin typeface="Tw Cen MT"/>
              </a:rPr>
              <a:t>28/07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e3ded1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D70B4-C3E7-4B9A-9419-8F1C1C285FD3}" type="slidenum">
              <a:rPr b="1" lang="fr-FR" sz="1400" spc="-1" strike="noStrike">
                <a:solidFill>
                  <a:srgbClr val="e3ded1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23232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7BC0B-933A-4DF2-A739-8DFC51A8F6B5}" type="datetime">
              <a:rPr b="0" lang="fr-FR" sz="1400" spc="-1" strike="noStrike">
                <a:solidFill>
                  <a:srgbClr val="323232"/>
                </a:solidFill>
                <a:latin typeface="Tw Cen MT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12C13-D7D7-41A6-85A8-FD2E3D44A2BA}" type="slidenum">
              <a:rPr b="1" lang="fr-FR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23232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D1201-56D9-4969-86AD-FFBE6E5C446B}" type="datetime">
              <a:rPr b="0" lang="fr-FR" sz="1400" spc="-1" strike="noStrike">
                <a:solidFill>
                  <a:srgbClr val="323232"/>
                </a:solidFill>
                <a:latin typeface="Tw Cen MT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1EDF9-C38A-4590-9A20-D3E81C642986}" type="slidenum">
              <a:rPr b="1" lang="fr-FR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23232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0049A-C70E-4C99-BB99-BC7795A1D4DC}" type="datetime">
              <a:rPr b="0" lang="fr-FR" sz="1400" spc="-1" strike="noStrike">
                <a:solidFill>
                  <a:srgbClr val="323232"/>
                </a:solidFill>
                <a:latin typeface="Tw Cen MT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9C5D9-CAF6-44D3-970C-A86C1EAC927F}" type="slidenum">
              <a:rPr b="1" lang="fr-FR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23232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382AA-2FC2-43E7-9F85-9E7C45FB76C5}" type="datetime">
              <a:rPr b="0" lang="fr-FR" sz="1400" spc="-1" strike="noStrike">
                <a:solidFill>
                  <a:srgbClr val="323232"/>
                </a:solidFill>
                <a:latin typeface="Tw Cen MT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323232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36C5E-EE5B-4EAA-B780-AC38AAEB7E8D}" type="slidenum">
              <a:rPr b="1" lang="fr-FR" sz="1400" spc="-1" strike="noStrike">
                <a:solidFill>
                  <a:srgbClr val="323232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23232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31C66-8DB5-4023-A52D-7C78854D5DED}" type="datetime">
              <a:rPr b="0" lang="fr-FR" sz="1400" spc="-1" strike="noStrike">
                <a:solidFill>
                  <a:srgbClr val="323232"/>
                </a:solidFill>
                <a:latin typeface="Tw Cen MT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FD47F-44E5-411E-92F3-01CC314B58EC}" type="slidenum">
              <a:rPr b="1" lang="fr-FR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23232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0B0C6-205C-48C3-AB5B-ADDE44A6D358}" type="datetime">
              <a:rPr b="0" lang="fr-FR" sz="1400" spc="-1" strike="noStrike">
                <a:solidFill>
                  <a:srgbClr val="323232"/>
                </a:solidFill>
                <a:latin typeface="Tw Cen MT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B81B0-45A2-4A47-AEE0-DD689EF61FEA}" type="slidenum">
              <a:rPr b="1" lang="fr-FR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356920" y="1714680"/>
            <a:ext cx="5572440" cy="178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ded1"/>
                </a:solidFill>
                <a:latin typeface="Tw Cen MT"/>
              </a:rPr>
              <a:t>NUMERISATION </a:t>
            </a:r>
            <a:endParaRPr b="0" lang="en-US" sz="4400" spc="-1" strike="noStrike">
              <a:solidFill>
                <a:srgbClr val="e3ded1"/>
              </a:solidFill>
              <a:latin typeface="Tw Cen 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2285640" y="49287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7" name="Rectangle 3"/>
          <p:cNvSpPr/>
          <p:nvPr/>
        </p:nvSpPr>
        <p:spPr>
          <a:xfrm>
            <a:off x="0" y="857160"/>
            <a:ext cx="91440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ZoneTexte 5"/>
          <p:cNvSpPr/>
          <p:nvPr/>
        </p:nvSpPr>
        <p:spPr>
          <a:xfrm>
            <a:off x="2428920" y="6215040"/>
            <a:ext cx="657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w Cen MT"/>
              </a:rPr>
              <a:t>Spécialité ISN                                           Année 2012-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Espace réservé du numéro de diapositive 6"/>
          <p:cNvSpPr/>
          <p:nvPr/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A8796-E7A3-4788-9B4F-189880B3AC85}" type="slidenum">
              <a:rPr b="1" lang="fr-FR" sz="1400" spc="-1" strike="noStrike">
                <a:solidFill>
                  <a:srgbClr val="e3ded1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571680" y="785880"/>
            <a:ext cx="1295280" cy="7524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3" descr=""/>
          <p:cNvPicPr/>
          <p:nvPr/>
        </p:nvPicPr>
        <p:blipFill>
          <a:blip r:embed="rId2"/>
          <a:stretch/>
        </p:blipFill>
        <p:spPr>
          <a:xfrm>
            <a:off x="642960" y="485784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10" descr="http://www.pfast.fr/local/cache-vignettes/L450xH338/numerisation3-23c12.png"/>
          <p:cNvPicPr/>
          <p:nvPr/>
        </p:nvPicPr>
        <p:blipFill>
          <a:blip r:embed="rId3"/>
          <a:stretch/>
        </p:blipFill>
        <p:spPr>
          <a:xfrm>
            <a:off x="5786280" y="642960"/>
            <a:ext cx="3025800" cy="227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766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74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14490-8630-488B-965E-DAAE6305B906}" type="slidenum">
              <a:rPr b="1" lang="fr-F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Picture 5" descr=""/>
          <p:cNvPicPr/>
          <p:nvPr/>
        </p:nvPicPr>
        <p:blipFill>
          <a:blip r:embed="rId1"/>
          <a:stretch/>
        </p:blipFill>
        <p:spPr>
          <a:xfrm>
            <a:off x="2727360" y="1785960"/>
            <a:ext cx="39844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766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77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9BD78-B0BF-4706-B93D-988270DDD236}" type="slidenum">
              <a:rPr b="1" lang="fr-F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2" descr=""/>
          <p:cNvPicPr/>
          <p:nvPr/>
        </p:nvPicPr>
        <p:blipFill>
          <a:blip r:embed="rId1"/>
          <a:stretch/>
        </p:blipFill>
        <p:spPr>
          <a:xfrm>
            <a:off x="527040" y="1714680"/>
            <a:ext cx="8116920" cy="41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766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0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6AD4D-FE7A-4F03-876B-703CA5C71C70}" type="slidenum">
              <a:rPr b="1" lang="fr-F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2" descr=""/>
          <p:cNvPicPr/>
          <p:nvPr/>
        </p:nvPicPr>
        <p:blipFill>
          <a:blip r:embed="rId1"/>
          <a:stretch/>
        </p:blipFill>
        <p:spPr>
          <a:xfrm>
            <a:off x="857160" y="2214720"/>
            <a:ext cx="788832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766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3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80524-4FD9-4432-80B5-30792D569DB6}" type="slidenum">
              <a:rPr b="1" lang="fr-F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4" name="Picture 2" descr=""/>
          <p:cNvPicPr/>
          <p:nvPr/>
        </p:nvPicPr>
        <p:blipFill>
          <a:blip r:embed="rId1"/>
          <a:stretch/>
        </p:blipFill>
        <p:spPr>
          <a:xfrm>
            <a:off x="642960" y="2000160"/>
            <a:ext cx="8143920" cy="13003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3" descr=""/>
          <p:cNvPicPr/>
          <p:nvPr/>
        </p:nvPicPr>
        <p:blipFill>
          <a:blip r:embed="rId2"/>
          <a:stretch/>
        </p:blipFill>
        <p:spPr>
          <a:xfrm>
            <a:off x="928800" y="3786120"/>
            <a:ext cx="7745400" cy="17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1T09:36:47Z</dcterms:created>
  <dc:creator>Claire</dc:creator>
  <dc:description/>
  <dc:language>en-US</dc:language>
  <cp:lastModifiedBy>Proprietaire</cp:lastModifiedBy>
  <dcterms:modified xsi:type="dcterms:W3CDTF">2012-05-04T15:53:21Z</dcterms:modified>
  <cp:revision>84</cp:revision>
  <dc:subject/>
  <dc:title>Tracker solaire</dc:title>
</cp:coreProperties>
</file>