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27F55-722D-4D1E-BA50-FF69A8A9A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E9EE-A741-4DFE-8559-C6E29D1D3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5D88-FCFF-4A66-80CF-A0134F4D9E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7B247-C807-492A-9FB2-08B9DB909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7908F-B1AD-4F17-8B2B-AB461F9D4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BF10D-FABE-4C24-BBD9-83809D0B2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5E61-E80F-4027-8840-A0C7496B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A3F10-33F0-4D62-8247-BC9C3D246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0AA14-E0AB-47FF-B91B-6AF829AA4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2DA94-9A7F-42BE-9ADB-B630B76C3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F442D-4405-4362-BE67-F5FDEF843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7F33-D1FD-4822-881E-F1CA1B98F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3787-C9D0-4CF6-AE84-5C095FF41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206F-804C-43BD-9A33-CEA8BF96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7339-A806-4B44-870E-D7B355739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649C0-7F18-4780-B488-3BB654A1D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1768C-82C9-46A1-B7E2-40694055E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7EBADB-B4F0-4D4B-AA78-DC318D187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BEAD1D-466B-4BA0-9457-EAFDAFF9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C28ECF-D554-4DC8-B2EF-FC001DE5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69DA56-838F-4D0C-AED2-E9609C44B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A39646-A8B2-462D-961B-957627BDA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8A8F-FC74-49E7-AC86-C06D0131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AD7504-D1FC-4AA7-AE96-74F029F6E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25BCB3-258D-4A33-8B0D-74E336A8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081F0C-631C-4538-8551-BEE82C91C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182FEB-B876-40B3-9C72-44B61A00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0BD204-8A8E-418F-9C0A-4D63CADB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38C803-FF5B-41B4-9D1D-878A71B14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64D2B9-CAEA-4B48-9455-AB3338E1E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3933F9-10D4-4471-A8F9-6432A5EAA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837AC3D-AE45-4421-9DC5-7A4DAD091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3485B9D-5388-4C47-985C-675AA926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E2F8-FBFB-4C49-86DF-2238FDEFD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E2C4A79-CC9D-4437-BEAD-DDB49A7DC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D1B8F5-F136-49C0-99CF-BEDBC4A98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A699C7-BB9B-4D20-8F27-E9120F089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B2D708-477A-4D3B-94AF-932029D4C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E1324B-BBAF-47C3-81DB-EDB6A663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52A2F3-C762-4882-B793-280E0DDD9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4ED594-63C9-40B0-BBFA-0A16F4FA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7E4629-71AA-4B9F-A8CF-CD193D187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D2C705A-A424-4D1A-81A8-2D3FEF9FE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1B9570-111C-41D2-A373-532F95FE4C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EA9E-627F-423A-A9ED-6AF1D203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1ADE46-266C-4011-A22A-5735FFF1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8176F2C-1CEF-4BBF-9710-52C297300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33BC54-467E-491A-9B74-6A69072D6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497380-E3F7-47DD-B4A9-20C21861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B3A4B07-670F-40B7-9C15-A5203962E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B40FCE9-4D04-4FC0-B31E-0EA3F8090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036DD3-B2DF-49CC-BA8F-07C5781E2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8EE6C4-64D1-47AD-874D-7B5BBB2F9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FD88140-BC82-4809-BEE3-74A449EE6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3905BB-59AD-4CB0-BFCB-A0EF4BBEE8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85AA-E357-471B-8B88-45BA37839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D029AA7-3952-4A2D-B9B3-62D65D155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16233-9086-4FA7-A98B-77D78B2A9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19EE81-4F6D-458A-8895-98658B5CD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9094C7-7A29-49CE-A834-F5B1D7F0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0199B4-8C1F-4B8F-81E7-8B6688659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D69D46-F035-4FB3-9C38-9C1EF1211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E0B24-5833-4324-83A4-F5EEEB7DC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6FE3B1-ADBE-4BC1-9F1F-626AC494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3926E5-800C-46A7-AE5A-8CEA4E35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5C0FE8-8668-4B80-8B64-7313801B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CA1F-E23C-49C7-B131-CCF121A9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1699DA-FD60-4B84-BFDB-4DF87C294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BAD13-BE3F-4452-97A5-5055DF6B1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FD13FA-B25E-4AC8-803D-E75EF03CC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2214040-D5E2-4931-96A4-2934861F6E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6D1C705-EDF4-4868-AC1D-D324F8412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CB73F2C-8A9C-4A08-A2A0-F2A26A2E0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E38F258-8BFD-4907-AB18-7F414AAD3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057FCB9-E5E7-4B69-A4B8-CC658ADF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6CB73E-0FBF-4D54-A182-4B3457F0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E07FFA6-BB84-4626-9C1A-E09914F2D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B567-5F53-4425-AFE2-9A12EB647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109EF15-22C0-4C8E-8637-ED12D0E8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B017B9-6772-4E9C-9AC5-1C59978B9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79DCE6-1793-4629-A66F-DEF7E6EE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6017EC-07F7-42DD-92B2-C80D32287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13BE92-B513-452A-974A-BBD783DE1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DF282A-32A2-4EEC-83D8-D0857D988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38CD2D-14C3-4175-B1E0-ED0E9C2E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7774C9-8351-4145-969D-E27DD5C48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1D19D8-842E-4E60-A653-C09CDCF1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CB9D7E-B50F-4D8E-AECE-285E48EB8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D951-1413-4D83-AF35-8591B38C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A05E87-3915-4258-9918-0F409DEE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FFA36C-3609-4BA9-86DA-BFBFA10E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4F740B-9A09-4BEB-806C-5CCD3871D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5D75C6-487C-4890-905B-5F81F8AB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DB0B78-9607-40FA-97E0-FBD66273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C842F0-45A6-42DF-921F-3A97EF629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7DB1FC-60DC-4A1B-AAEF-911F62706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CF377-0484-4213-B4C0-0863EF1F0BC3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98033-C8ED-4F22-9ABC-FB8A48E14D50}" type="slidenum">
              <a:rPr b="1" lang="fr-F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ded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3ded1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8BE3-1022-40AC-BDBD-D74C6EF7C6CB}" type="datetime">
              <a:rPr b="0" lang="fr-FR" sz="2000" spc="-1" strike="noStrike">
                <a:solidFill>
                  <a:srgbClr val="ffffff"/>
                </a:solidFill>
                <a:latin typeface="Tw Cen MT"/>
              </a:rPr>
              <a:t>28/07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e3ded1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C2FC7-6A9D-43B3-9455-5DD20B71C473}" type="slidenum">
              <a:rPr b="1" lang="fr-FR" sz="1400" spc="-1" strike="noStrike">
                <a:solidFill>
                  <a:srgbClr val="e3ded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F948-9890-4A38-A215-F153B94A4D43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CE848-1AEB-42A5-A18D-3A647E8449F9}" type="slidenum">
              <a:rPr b="1" lang="fr-FR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D0C7-AA5C-43CF-815D-175AF06E6D9F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598BB-C31E-43E4-A220-D02DE096D7FF}" type="slidenum">
              <a:rPr b="1" lang="fr-F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880D-132F-4BDB-8EF6-9CF2E88F9CF8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11BC-2279-474B-BE88-6C89CCD82A33}" type="slidenum">
              <a:rPr b="1" lang="fr-F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C80043-920A-4DDF-8D80-1E22B577768C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94E97-A369-4CB9-8EC4-7413F0E136B3}" type="slidenum">
              <a:rPr b="1" lang="fr-FR" sz="1400" spc="-1" strike="noStrike">
                <a:solidFill>
                  <a:srgbClr val="323232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0A6D-55B9-4A4B-B578-7020CB820748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A9BC-B339-4460-AC53-92EAFE91079D}" type="slidenum">
              <a:rPr b="1" lang="fr-FR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19E9-FAA0-453F-BF81-B677F74B458D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888AF-F0AE-4557-BCF1-C5CA7A133EFF}" type="slidenum">
              <a:rPr b="1" lang="fr-F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25.png"/><Relationship Id="rId3" Type="http://schemas.openxmlformats.org/officeDocument/2006/relationships/image" Target="../media/image31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28920" y="2571480"/>
            <a:ext cx="4643280" cy="10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ded1"/>
                </a:solidFill>
                <a:latin typeface="Tw Cen MT"/>
              </a:rPr>
              <a:t>INFORMATIQUE ?</a:t>
            </a:r>
            <a:endParaRPr b="0" lang="en-US" sz="4400" spc="-1" strike="noStrike">
              <a:solidFill>
                <a:srgbClr val="e3ded1"/>
              </a:solidFill>
              <a:latin typeface="Tw Cen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2285640" y="4928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ffffff"/>
                </a:solidFill>
                <a:latin typeface="Tw Cen MT"/>
              </a:rPr>
              <a:t>Présentation de l informatique .</a:t>
            </a:r>
            <a:endParaRPr b="0" lang="en-US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0" y="857160"/>
            <a:ext cx="91440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ZoneTexte 5"/>
          <p:cNvSpPr/>
          <p:nvPr/>
        </p:nvSpPr>
        <p:spPr>
          <a:xfrm>
            <a:off x="2428920" y="6215040"/>
            <a:ext cx="657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w Cen MT"/>
              </a:rPr>
              <a:t>Spécialité ISN                                           Année 2012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Espace réservé du numéro de diapositive 6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91D7-A2C6-4F39-9613-783D2AA9DF68}" type="slidenum">
              <a:rPr b="1" lang="fr-FR" sz="1400" spc="-1" strike="noStrike">
                <a:solidFill>
                  <a:srgbClr val="e3ded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571680" y="785880"/>
            <a:ext cx="1295280" cy="7524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"/>
          <p:cNvPicPr/>
          <p:nvPr/>
        </p:nvPicPr>
        <p:blipFill>
          <a:blip r:embed="rId2"/>
          <a:stretch/>
        </p:blipFill>
        <p:spPr>
          <a:xfrm>
            <a:off x="642960" y="485784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"/>
          <p:cNvPicPr/>
          <p:nvPr/>
        </p:nvPicPr>
        <p:blipFill>
          <a:blip r:embed="rId3"/>
          <a:stretch/>
        </p:blipFill>
        <p:spPr>
          <a:xfrm>
            <a:off x="6357960" y="71424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Espace réservé du numéro de diapositive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797D7-39B1-4956-95B6-6CBA543BCB37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itre 1"/>
          <p:cNvSpPr/>
          <p:nvPr/>
        </p:nvSpPr>
        <p:spPr>
          <a:xfrm>
            <a:off x="571680" y="2142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w Cen MT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Picture 2" descr=""/>
          <p:cNvPicPr/>
          <p:nvPr/>
        </p:nvPicPr>
        <p:blipFill>
          <a:blip r:embed="rId1"/>
          <a:stretch/>
        </p:blipFill>
        <p:spPr>
          <a:xfrm>
            <a:off x="1071720" y="1714680"/>
            <a:ext cx="721512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Espace réservé du numéro de diapositive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34D33-B8D2-4106-B156-06F50FBFB075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itre 1"/>
          <p:cNvSpPr/>
          <p:nvPr/>
        </p:nvSpPr>
        <p:spPr>
          <a:xfrm>
            <a:off x="571680" y="2142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w Cen MT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" descr=""/>
          <p:cNvPicPr/>
          <p:nvPr/>
        </p:nvPicPr>
        <p:blipFill>
          <a:blip r:embed="rId1"/>
          <a:stretch/>
        </p:blipFill>
        <p:spPr>
          <a:xfrm>
            <a:off x="857160" y="1571760"/>
            <a:ext cx="771552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Espace réservé du numéro de diapositive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F1BD-72ED-4CE9-9E75-5934A0D2B257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itre 1"/>
          <p:cNvSpPr/>
          <p:nvPr/>
        </p:nvSpPr>
        <p:spPr>
          <a:xfrm>
            <a:off x="571680" y="2142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w Cen MT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Picture 2" descr=""/>
          <p:cNvPicPr/>
          <p:nvPr/>
        </p:nvPicPr>
        <p:blipFill>
          <a:blip r:embed="rId1"/>
          <a:stretch/>
        </p:blipFill>
        <p:spPr>
          <a:xfrm>
            <a:off x="785880" y="1714680"/>
            <a:ext cx="7072200" cy="48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w Cen MT"/>
              </a:rPr>
              <a:t>Métiers de l’informatique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17" name="Espace réservé du numéro de diapositive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9B88E-F8F0-4D3B-B093-0B82BA791520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2" descr=""/>
          <p:cNvPicPr/>
          <p:nvPr/>
        </p:nvPicPr>
        <p:blipFill>
          <a:blip r:embed="rId1"/>
          <a:stretch/>
        </p:blipFill>
        <p:spPr>
          <a:xfrm>
            <a:off x="785880" y="1571760"/>
            <a:ext cx="730548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w Cen MT"/>
              </a:rPr>
              <a:t>Métiers de l’informatique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0" name="Espace réservé du numéro de diapositive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AA7B-5B12-4819-B497-AAA58A8C39B6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Picture 2" descr=""/>
          <p:cNvPicPr/>
          <p:nvPr/>
        </p:nvPicPr>
        <p:blipFill>
          <a:blip r:embed="rId1"/>
          <a:stretch/>
        </p:blipFill>
        <p:spPr>
          <a:xfrm>
            <a:off x="857160" y="1571760"/>
            <a:ext cx="722808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w Cen MT"/>
              </a:rPr>
              <a:t>Formation de l informatique 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23" name="Espace réservé du numéro de diapositive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C624F-C396-41A0-BAC6-CCCCAB8E49D8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5" descr=""/>
          <p:cNvPicPr/>
          <p:nvPr/>
        </p:nvPicPr>
        <p:blipFill>
          <a:blip r:embed="rId1"/>
          <a:stretch/>
        </p:blipFill>
        <p:spPr>
          <a:xfrm>
            <a:off x="3143160" y="2286000"/>
            <a:ext cx="2681280" cy="14479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6" descr=""/>
          <p:cNvPicPr/>
          <p:nvPr/>
        </p:nvPicPr>
        <p:blipFill>
          <a:blip r:embed="rId2"/>
          <a:stretch/>
        </p:blipFill>
        <p:spPr>
          <a:xfrm>
            <a:off x="357120" y="1785960"/>
            <a:ext cx="2619360" cy="178596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7" descr=""/>
          <p:cNvPicPr/>
          <p:nvPr/>
        </p:nvPicPr>
        <p:blipFill>
          <a:blip r:embed="rId3"/>
          <a:stretch/>
        </p:blipFill>
        <p:spPr>
          <a:xfrm>
            <a:off x="6000840" y="1571760"/>
            <a:ext cx="2857320" cy="19047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8" descr=""/>
          <p:cNvPicPr/>
          <p:nvPr/>
        </p:nvPicPr>
        <p:blipFill>
          <a:blip r:embed="rId4"/>
          <a:stretch/>
        </p:blipFill>
        <p:spPr>
          <a:xfrm>
            <a:off x="214200" y="4000680"/>
            <a:ext cx="3532320" cy="25714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9" descr=""/>
          <p:cNvPicPr/>
          <p:nvPr/>
        </p:nvPicPr>
        <p:blipFill>
          <a:blip r:embed="rId5"/>
          <a:stretch/>
        </p:blipFill>
        <p:spPr>
          <a:xfrm>
            <a:off x="4572000" y="4214880"/>
            <a:ext cx="3718080" cy="23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w Cen MT"/>
              </a:rPr>
              <a:t>Formation de l informatique 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30" name="Espace réservé du numéro de diapositive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64FF6-AC30-4472-BF5F-85952CFFD0F4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2" descr=""/>
          <p:cNvPicPr/>
          <p:nvPr/>
        </p:nvPicPr>
        <p:blipFill>
          <a:blip r:embed="rId1"/>
          <a:stretch/>
        </p:blipFill>
        <p:spPr>
          <a:xfrm>
            <a:off x="428760" y="1857240"/>
            <a:ext cx="3190680" cy="19288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5" descr=""/>
          <p:cNvPicPr/>
          <p:nvPr/>
        </p:nvPicPr>
        <p:blipFill>
          <a:blip r:embed="rId2"/>
          <a:stretch/>
        </p:blipFill>
        <p:spPr>
          <a:xfrm>
            <a:off x="4357800" y="2000160"/>
            <a:ext cx="2946240" cy="1590840"/>
          </a:xfrm>
          <a:prstGeom prst="rect">
            <a:avLst/>
          </a:prstGeom>
          <a:ln w="0">
            <a:noFill/>
          </a:ln>
        </p:spPr>
      </p:pic>
      <p:pic>
        <p:nvPicPr>
          <p:cNvPr id="433" name="Picture 3" descr=""/>
          <p:cNvPicPr/>
          <p:nvPr/>
        </p:nvPicPr>
        <p:blipFill>
          <a:blip r:embed="rId3"/>
          <a:stretch/>
        </p:blipFill>
        <p:spPr>
          <a:xfrm>
            <a:off x="5000760" y="4286160"/>
            <a:ext cx="3336840" cy="1643040"/>
          </a:xfrm>
          <a:prstGeom prst="rect">
            <a:avLst/>
          </a:prstGeom>
          <a:ln w="0">
            <a:noFill/>
          </a:ln>
        </p:spPr>
      </p:pic>
      <p:pic>
        <p:nvPicPr>
          <p:cNvPr id="434" name="Picture 8" descr=""/>
          <p:cNvPicPr/>
          <p:nvPr/>
        </p:nvPicPr>
        <p:blipFill>
          <a:blip r:embed="rId4"/>
          <a:stretch/>
        </p:blipFill>
        <p:spPr>
          <a:xfrm>
            <a:off x="1071720" y="3929040"/>
            <a:ext cx="35319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w Cen MT"/>
              </a:rPr>
              <a:t>Plan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642960" y="178596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f9b268"/>
                </a:solidFill>
                <a:latin typeface="Tw Cen MT"/>
              </a:rPr>
              <a:t>Introduction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f9b268"/>
                </a:solidFill>
                <a:latin typeface="Tw Cen MT"/>
              </a:rPr>
              <a:t>Métiers de l informatique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900" spc="-1" strike="noStrike">
                <a:solidFill>
                  <a:srgbClr val="f9b268"/>
                </a:solidFill>
                <a:latin typeface="Tw Cen MT"/>
              </a:rPr>
              <a:t>Formation de l informatique   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150000"/>
              </a:lnSpc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5" name="Espace réservé du numéro de diapositive 4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5A7C7-BF8E-4FA6-8FBF-FA04CA4E0265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Picture 5" descr=""/>
          <p:cNvPicPr/>
          <p:nvPr/>
        </p:nvPicPr>
        <p:blipFill>
          <a:blip r:embed="rId1"/>
          <a:stretch/>
        </p:blipFill>
        <p:spPr>
          <a:xfrm>
            <a:off x="5929200" y="1928880"/>
            <a:ext cx="2495520" cy="171432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1" descr=""/>
          <p:cNvPicPr/>
          <p:nvPr/>
        </p:nvPicPr>
        <p:blipFill>
          <a:blip r:embed="rId2"/>
          <a:stretch/>
        </p:blipFill>
        <p:spPr>
          <a:xfrm>
            <a:off x="1500120" y="4214880"/>
            <a:ext cx="1905120" cy="129528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2" descr=""/>
          <p:cNvPicPr/>
          <p:nvPr/>
        </p:nvPicPr>
        <p:blipFill>
          <a:blip r:embed="rId3"/>
          <a:stretch/>
        </p:blipFill>
        <p:spPr>
          <a:xfrm>
            <a:off x="4572000" y="4286160"/>
            <a:ext cx="1285920" cy="1143000"/>
          </a:xfrm>
          <a:prstGeom prst="rect">
            <a:avLst/>
          </a:prstGeom>
          <a:ln w="0">
            <a:noFill/>
          </a:ln>
        </p:spPr>
      </p:pic>
      <p:pic>
        <p:nvPicPr>
          <p:cNvPr id="379" name="Picture 13" descr=""/>
          <p:cNvPicPr/>
          <p:nvPr/>
        </p:nvPicPr>
        <p:blipFill>
          <a:blip r:embed="rId4"/>
          <a:stretch/>
        </p:blipFill>
        <p:spPr>
          <a:xfrm>
            <a:off x="6715080" y="414324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w Cen MT"/>
              </a:rPr>
              <a:t>Introduction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1" name="Espace réservé du numéro de diapositive 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9D425-E115-493D-8B20-7DF89C6F14DF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Picture 2" descr=""/>
          <p:cNvPicPr/>
          <p:nvPr/>
        </p:nvPicPr>
        <p:blipFill>
          <a:blip r:embed="rId1"/>
          <a:stretch/>
        </p:blipFill>
        <p:spPr>
          <a:xfrm>
            <a:off x="285840" y="2786040"/>
            <a:ext cx="2847960" cy="160020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3" descr=""/>
          <p:cNvPicPr/>
          <p:nvPr/>
        </p:nvPicPr>
        <p:blipFill>
          <a:blip r:embed="rId2"/>
          <a:stretch/>
        </p:blipFill>
        <p:spPr>
          <a:xfrm>
            <a:off x="6143760" y="1857240"/>
            <a:ext cx="2514600" cy="18194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5" descr=""/>
          <p:cNvPicPr/>
          <p:nvPr/>
        </p:nvPicPr>
        <p:blipFill>
          <a:blip r:embed="rId3"/>
          <a:stretch/>
        </p:blipFill>
        <p:spPr>
          <a:xfrm>
            <a:off x="3286080" y="2000160"/>
            <a:ext cx="2390760" cy="191448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6" descr=""/>
          <p:cNvPicPr/>
          <p:nvPr/>
        </p:nvPicPr>
        <p:blipFill>
          <a:blip r:embed="rId4"/>
          <a:stretch/>
        </p:blipFill>
        <p:spPr>
          <a:xfrm>
            <a:off x="6643800" y="3929040"/>
            <a:ext cx="1733400" cy="251460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7" descr=""/>
          <p:cNvPicPr/>
          <p:nvPr/>
        </p:nvPicPr>
        <p:blipFill>
          <a:blip r:embed="rId5"/>
          <a:stretch/>
        </p:blipFill>
        <p:spPr>
          <a:xfrm>
            <a:off x="3286080" y="4357800"/>
            <a:ext cx="2438280" cy="18763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"/>
          <p:cNvPicPr/>
          <p:nvPr/>
        </p:nvPicPr>
        <p:blipFill>
          <a:blip r:embed="rId6"/>
          <a:stretch/>
        </p:blipFill>
        <p:spPr>
          <a:xfrm>
            <a:off x="1285920" y="4643280"/>
            <a:ext cx="1095480" cy="15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w Cen MT"/>
              </a:rPr>
              <a:t>Introduction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9" name="Espace réservé du numéro de diapositive 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90D5E-8F14-4054-B9BE-B4B56C068D5C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2" descr=""/>
          <p:cNvPicPr/>
          <p:nvPr/>
        </p:nvPicPr>
        <p:blipFill>
          <a:blip r:embed="rId1"/>
          <a:stretch/>
        </p:blipFill>
        <p:spPr>
          <a:xfrm>
            <a:off x="857160" y="1785960"/>
            <a:ext cx="717228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w Cen MT"/>
              </a:rPr>
              <a:t>Introduction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92" name="Espace réservé du numéro de diapositive 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541C8-C13E-492B-BE6D-78ED6871202E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Picture 2" descr=""/>
          <p:cNvPicPr/>
          <p:nvPr/>
        </p:nvPicPr>
        <p:blipFill>
          <a:blip r:embed="rId1"/>
          <a:stretch/>
        </p:blipFill>
        <p:spPr>
          <a:xfrm>
            <a:off x="1357200" y="1500120"/>
            <a:ext cx="6661440" cy="488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w Cen MT"/>
              </a:rPr>
              <a:t>Introduction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95" name="Espace réservé du numéro de diapositive 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4B1B0-BB9B-41A5-A39A-B17CC87F4BBF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1285920" y="1571760"/>
            <a:ext cx="678960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w Cen MT"/>
              </a:rPr>
              <a:t>Introduction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98" name="Espace réservé du numéro de diapositive 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393E0-9136-4A9F-A941-17EFCC87418E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2" descr=""/>
          <p:cNvPicPr/>
          <p:nvPr/>
        </p:nvPicPr>
        <p:blipFill>
          <a:blip r:embed="rId1"/>
          <a:stretch/>
        </p:blipFill>
        <p:spPr>
          <a:xfrm>
            <a:off x="928800" y="1643040"/>
            <a:ext cx="7356240" cy="49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w Cen MT"/>
              </a:rPr>
              <a:t>Introduction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401" name="Espace réservé du numéro de diapositive 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A56EA-3578-4FB7-9749-1B2C061A42F7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403" name="Picture 2" descr=""/>
          <p:cNvPicPr/>
          <p:nvPr/>
        </p:nvPicPr>
        <p:blipFill>
          <a:blip r:embed="rId1"/>
          <a:stretch/>
        </p:blipFill>
        <p:spPr>
          <a:xfrm>
            <a:off x="857160" y="1643040"/>
            <a:ext cx="7315200" cy="46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Espace réservé du numéro de diapositive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1B3F3-1C2C-4C5C-8DBC-6071AAA12946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4" descr=""/>
          <p:cNvPicPr/>
          <p:nvPr/>
        </p:nvPicPr>
        <p:blipFill>
          <a:blip r:embed="rId1"/>
          <a:stretch/>
        </p:blipFill>
        <p:spPr>
          <a:xfrm>
            <a:off x="785880" y="1785960"/>
            <a:ext cx="7643880" cy="4500720"/>
          </a:xfrm>
          <a:prstGeom prst="rect">
            <a:avLst/>
          </a:prstGeom>
          <a:ln w="0">
            <a:noFill/>
          </a:ln>
        </p:spPr>
      </p:pic>
      <p:sp>
        <p:nvSpPr>
          <p:cNvPr id="406" name="Titre 1"/>
          <p:cNvSpPr/>
          <p:nvPr/>
        </p:nvSpPr>
        <p:spPr>
          <a:xfrm>
            <a:off x="571680" y="214200"/>
            <a:ext cx="81532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w Cen MT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1T09:36:47Z</dcterms:created>
  <dc:creator>Claire</dc:creator>
  <dc:description/>
  <dc:language>en-US</dc:language>
  <cp:lastModifiedBy>Proprietaire</cp:lastModifiedBy>
  <dcterms:modified xsi:type="dcterms:W3CDTF">2012-04-30T12:06:40Z</dcterms:modified>
  <cp:revision>52</cp:revision>
  <dc:subject/>
  <dc:title>Tracker solaire</dc:title>
</cp:coreProperties>
</file>