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C1E8-DE19-4869-9040-12B166A8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C89BB-2C5A-4574-A886-C336FF501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A24D-9145-441E-93B1-F0C183D60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88FD-6CE1-4F2F-AF73-0D06D0DCA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D9BAB-91EC-484C-B608-0046A044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5A1A-5EBA-4597-BB06-7BF59B09B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E7D99-1BD4-49D3-AE58-66F755260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7CAFB-A156-4738-BDA5-0D9487C1B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DDA38-5A4F-42D0-BFD7-F8B97C64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5CA10-3ACB-48B8-8A6A-3872FF85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6730-E8D8-4FDA-9E2F-D86B3D72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EF83-084E-491B-BCA6-5827E7E5C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6257A-4A54-4131-8D12-68854743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13211-DEC0-4238-A6D8-2599015D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4343F-ADB7-441D-B2F9-2BE750C56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BF115-6085-4B52-9EE0-842BBF385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C60A0-FA7A-4F64-AB1D-5389AA5C1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B8E4548-23F5-4221-B1B7-B148E35CC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155A731-2D2B-4A01-A5E3-85B661DDC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164F90-9405-4D8B-8B0B-ADB85B82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0F8EBE-EE95-4004-B30C-D66DF8A1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08BEDCC-F639-42C7-B75E-43A555735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450A-DAAB-48FB-ADE9-7A8B6E70A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F080E8-0845-432E-8A2C-A9D37FE9E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2B3924-40A9-41B7-9AED-DE0750B6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BC37A-1C7E-46DF-8438-BE04989E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1AA30C-63D7-418F-B684-91813EAE4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C47BC4-BCEA-4C76-9053-7B3C1FD59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5A0203-E682-415A-AFC3-F23B285BE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7C6747-FE4E-4E72-A8D4-293E932D3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2410C4-4196-4D98-8B98-C7E1F92D2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4DF419-4FA7-47FD-BACA-FE7E1AD2A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CF8ED0-6E6B-4684-9243-D0989C78E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949CD-55A0-49F3-9DEB-DC169D8A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B4198E-B931-4306-BA1E-92410A4F6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702EC1-B919-450F-8816-87F6F6792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6127AE4-7804-4263-99D5-EF7FC152E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CA392D-DC30-4745-BDB9-20B3BE52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A3BCE6-6BC3-44C3-83F6-4E4D45263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711EDA-88B9-4B7E-95DF-3D77B71B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4581F3-9412-4719-9FEC-E29865CD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1D1141-69F8-4DE9-B60D-BC6CA2591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C8AFA7-5B58-4489-820D-4573335AC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86C376-6BA2-4EC4-B2B5-4D724B82E4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2C63-1ABB-4ABB-A4CD-2C1B29284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2FD2D4-3414-4FA5-9468-CE4617885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CCA662D-7863-4A55-9731-AB25D829F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B5577E-903D-49CB-8D3E-A48A09EC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4774C3-4F15-49E7-935A-C1DA15FF6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5BB252F-1D01-4A6E-9B88-D8BB37C3D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F122BB-860E-4BED-AC12-8C48CE393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6F016-545E-4087-AE69-56573BDBD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20863B-8607-4C7F-8153-DA00914F3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A3720E6-C458-4AD2-A022-CEE433892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D786B3-00B9-461D-8359-81A4C38D0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BD26-4448-4124-8296-942B0153E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0AAA3C-BC21-49E5-95EB-052DA90C6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040095-DD7E-4494-91F6-EC2897CCD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7F7513-270C-464D-84B5-D1A7F4DF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27D44-56D5-4014-8F8F-F2D26CB39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DB2306-0E69-490C-AA1F-8A4D005DB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5616E7-598B-49B6-A620-7737BB59F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FE2B-ADF5-4004-A964-7E5FF0180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47113D-EB8A-4007-9811-2A00B1A6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2A1A66-0748-48C9-B1B8-71BD155D7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C88A22-957E-44A9-B22D-5498A3141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82D6-736B-4499-A554-0542CC4C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5ADBC3-8216-4880-B0AA-997F21BC1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CD48A2-2C31-4804-85EC-5B3EA84F2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AD7315-4AD2-42DC-B2B7-E38E5A323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DC13557-E4FE-433D-835C-4A95AA168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E9100A-15BF-4B29-B685-81BE5248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438E9CB-CE6F-4847-8D5A-74DAAE693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00D554-82BA-43CE-9AF8-398C6F44E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6032457-9F65-4531-AF4B-EEFAFB34F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4BB1B66-5E5B-4E66-A3AD-86A11AB0F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456096C-8D1F-4E0C-8116-6E0E46844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6DEF-A61E-42E6-A3FA-667AEA763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50BF01-03DD-4682-8675-C7005E386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FB4EB4E-6697-441D-9375-5F791F87B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BE900DA-8A1C-461D-906B-C649512E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C1E99E-28F6-4819-BD53-BDADAA5BA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19F9439-CC17-479C-B3FD-7B22131C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C0D3E-3940-49E9-AC6C-8749F38A6C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1CB93-44D8-4D38-A481-758C84A8D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A6140B-35BA-4653-B90A-8DAF5DB07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78A21-F023-4803-B9A2-54CBB251B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EF156C-8075-4AA4-91B5-55572655C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0E15-21D7-4DB1-9063-91B4CB66F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5E8F60-5090-4FD8-865E-C2763CD26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B840D-7CB3-4B01-898D-2F819149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F0E6B7-B63E-4F33-A828-3D93CB4C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EF05A0-521A-4667-8416-00EB37188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437BB4-6A54-402A-A764-F4FD9ECD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0691D7-2875-44AA-96F5-A1E4F06CF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80A68B-BDB3-401A-9F0C-4C48EB621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BB8D-A751-4ACB-BE49-6D188FF9AFBE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0C310-8809-4BA1-B559-08DC34DBC443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ded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20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8B167-0C32-4FD9-A0EE-751C3B97523B}" type="datetime">
              <a:rPr b="0" lang="fr-FR" sz="2000" spc="-1" strike="noStrike">
                <a:solidFill>
                  <a:srgbClr val="ffffff"/>
                </a:solidFill>
                <a:latin typeface="Tw Cen MT"/>
              </a:rPr>
              <a:t>28/07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e3ded1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7C4-B44C-4D1A-A1EE-60EB00952BA8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940F1-EDFA-4183-9CEA-ACE16B0D806F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sldNum" idx="8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1ABAF-21F0-4CA2-8C3A-4F1CD34DEF43}" type="slidenum">
              <a:rPr b="1" lang="fr-FR" sz="2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ftr" idx="9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58A8E-F1B7-4595-A349-8AE70FA29981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sldNum" idx="1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3B638-3FEC-44D9-8E52-3A175F60B6FE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2E998-C03D-41F4-AC20-70211EB2B0C2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9385-83DA-49A6-B33D-B31AF3313D1A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C6496-E9F2-4FDD-83C7-9791CEEE8F8C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A91E-B2D7-4D45-B46C-5447BED9A346}" type="slidenum">
              <a:rPr b="1" lang="fr-FR" sz="1400" spc="-1" strike="noStrike">
                <a:solidFill>
                  <a:srgbClr val="323232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Rectangle 12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FAD8E-9921-4261-B2AA-94121AAC43B5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sldNum" idx="20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28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65E6F-1001-47EC-8A8E-C538BC381FF0}" type="slidenum">
              <a:rPr b="1" lang="fr-FR" sz="28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ftr" idx="21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23232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f07f09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9f293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1b587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4e854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323232"/>
                </a:solidFill>
                <a:latin typeface="Tw Cen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34D3-CD75-465E-8D22-CBA9C5AA3E14}" type="datetime">
              <a:rPr b="0" lang="fr-FR" sz="1400" spc="-1" strike="noStrike">
                <a:solidFill>
                  <a:srgbClr val="323232"/>
                </a:solidFill>
                <a:latin typeface="Tw Cen MT"/>
              </a:rPr>
              <a:t>28/07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ffffff"/>
                </a:solidFill>
                <a:latin typeface="Tw Cen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2E5C4-2AA4-493E-A5F3-3BDA809029EE}" type="slidenum">
              <a:rPr b="1" lang="fr-FR" sz="14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6262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428920" y="2571480"/>
            <a:ext cx="4643280" cy="1042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3ded1"/>
                </a:solidFill>
                <a:latin typeface="Tw Cen MT"/>
              </a:rPr>
              <a:t>PERSONNE</a:t>
            </a:r>
            <a:endParaRPr b="0" lang="en-US" sz="4400" spc="-1" strike="noStrike">
              <a:solidFill>
                <a:srgbClr val="e3ded1"/>
              </a:solidFill>
              <a:latin typeface="Tw Cen M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2285640" y="49287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26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367" name="Rectangle 3"/>
          <p:cNvSpPr/>
          <p:nvPr/>
        </p:nvSpPr>
        <p:spPr>
          <a:xfrm>
            <a:off x="0" y="857160"/>
            <a:ext cx="9144000" cy="114300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ZoneTexte 5"/>
          <p:cNvSpPr/>
          <p:nvPr/>
        </p:nvSpPr>
        <p:spPr>
          <a:xfrm>
            <a:off x="2428920" y="6215040"/>
            <a:ext cx="6572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w Cen MT"/>
              </a:rPr>
              <a:t>Spécialité ISN                                           Année 2012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Espace réservé du numéro de diapositive 6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54556-1681-4E74-8239-2C4FD788FBE7}" type="slidenum">
              <a:rPr b="1" lang="fr-FR" sz="1400" spc="-1" strike="noStrike">
                <a:solidFill>
                  <a:srgbClr val="e3ded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"/>
          <p:cNvPicPr/>
          <p:nvPr/>
        </p:nvPicPr>
        <p:blipFill>
          <a:blip r:embed="rId1"/>
          <a:stretch/>
        </p:blipFill>
        <p:spPr>
          <a:xfrm>
            <a:off x="571680" y="785880"/>
            <a:ext cx="1295280" cy="75240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"/>
          <p:cNvPicPr/>
          <p:nvPr/>
        </p:nvPicPr>
        <p:blipFill>
          <a:blip r:embed="rId2"/>
          <a:stretch/>
        </p:blipFill>
        <p:spPr>
          <a:xfrm>
            <a:off x="642960" y="4857840"/>
            <a:ext cx="857160" cy="85716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"/>
          <p:cNvPicPr/>
          <p:nvPr/>
        </p:nvPicPr>
        <p:blipFill>
          <a:blip r:embed="rId3"/>
          <a:stretch/>
        </p:blipFill>
        <p:spPr>
          <a:xfrm>
            <a:off x="6357960" y="714240"/>
            <a:ext cx="246708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Tw Cen MT"/>
              </a:rPr>
              <a:t>BIOGRAPHIE Introduction</a:t>
            </a:r>
            <a:endParaRPr b="0" lang="en-US" sz="4400" spc="-1" strike="noStrike">
              <a:solidFill>
                <a:srgbClr val="323232"/>
              </a:solidFill>
              <a:latin typeface="Tw Cen MT"/>
            </a:endParaRPr>
          </a:p>
        </p:txBody>
      </p:sp>
      <p:sp>
        <p:nvSpPr>
          <p:cNvPr id="374" name="Espace réservé du numéro de diapositive 8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B84B3-9A76-4536-A80B-3D9F1ADBE8CC}" type="slidenum">
              <a:rPr b="1" lang="fr-FR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428760" y="192888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18960" indent="-318960">
              <a:spcBef>
                <a:spcPts val="700"/>
              </a:spcBef>
              <a:buClr>
                <a:srgbClr val="9f2936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1T09:36:47Z</dcterms:created>
  <dc:creator>Claire</dc:creator>
  <dc:description/>
  <dc:language>en-US</dc:language>
  <cp:lastModifiedBy>Proprietaire</cp:lastModifiedBy>
  <dcterms:modified xsi:type="dcterms:W3CDTF">2012-04-27T14:05:18Z</dcterms:modified>
  <cp:revision>52</cp:revision>
  <dc:subject/>
  <dc:title>Tracker solaire</dc:title>
</cp:coreProperties>
</file>